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3E4D-10F7-4A14-985F-1D1744084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414F-17CF-42CF-9121-4FE8744DB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8075-AE1E-4406-A635-A3207A24F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2A21-EAF4-4CD6-A74B-2A0C21F17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70E-FBF9-4BC6-83B5-3D17DA62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D20-A37A-4809-A0D0-FC8AA093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725-3DB0-4E91-ABCF-EDB113E47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4EC5-451B-48C2-87EF-44269A45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5912-9E3C-4220-B068-59E877DA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6A8F-5D01-47C5-BBF9-F52D68DC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2E40-6307-4202-A930-62DAC4C5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E63C-CE70-4F94-A8A7-CE78CB0F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9FD4-EBEA-4F7D-ACC9-C9A9793D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7E73-3501-49F8-B1E8-13CFB1F0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143-E0B2-42C9-BA85-A4C28C1C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A52C-7458-482B-B8AD-1F264EA2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96A6-CB7B-486F-8EA3-36403135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B0CD-9FD8-476E-AAB5-DF59652B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0154-1914-4CCE-A464-A0565BD3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D433-268D-45BE-8F43-E39667B9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335D-0C7C-415E-8CA9-D77EE4C0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00BF2-E485-4334-98B3-9E6D6522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439B2-E96A-4C57-8F3E-63A587B6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C9D7-4843-4B02-8A6A-A9B4C2AF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177EE-775E-4D14-9935-BCFFCF03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95C4-9152-4E5B-B522-A7A73AF3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AA895-32A1-40C3-A538-8641DC8A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3152-B56E-4B1A-B68A-CEAAD1B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84771-5E25-4AFF-A5C4-CAA22521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58E40-5F08-4BF2-A84C-E26E5CD7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81C3-9109-4CAA-A8F5-37974FC5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1DEFC-C547-4F62-B2D3-7AAB3C99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79852-298A-4F7B-BADC-6A7416EBD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68B6-F790-4A84-82D0-F44869B6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8E0-3A4E-449B-82BD-67DF9A90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76B-894B-43D8-9BDD-29842C0D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DEE-A1AA-4CD7-AE0C-36730CE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E1F-06C0-42FE-A4E3-94442C6F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719-4632-4841-BA0C-DB266A52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53EE-4503-48C5-A3C2-409FED135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936A-7837-47A7-AB28-93D24DB72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1B4B-75F5-4845-AA1D-002E6473CC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08080" y="1600200"/>
            <a:ext cx="6145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entury Gothic"/>
              </a:rPr>
              <a:t>Basic Sentence Constr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djectiv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Adjectives go before the noun: “Pretty girl,” “ugly bruise,” “blue sky,”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 exception to this rule: when an adjective is used as a subject complement. (More on this later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dverb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6800" y="213372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Adverbs need to go near the verb they are describing, but do not always need to go before or after a ver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Examples: “He ran merrily” “He happily sang.” (They are both acceptable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 </a:t>
            </a: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big, black 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cat jumped </a:t>
            </a:r>
            <a:r>
              <a:rPr b="0" i="1" lang="en-US" sz="3200" spc="-1" strike="noStrike">
                <a:solidFill>
                  <a:srgbClr val="0070c0"/>
                </a:solidFill>
                <a:latin typeface="Century Gothic"/>
              </a:rPr>
              <a:t>happily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 onto my lap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He played his </a:t>
            </a: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electric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 guitar </a:t>
            </a:r>
            <a:r>
              <a:rPr b="0" i="1" lang="en-US" sz="3200" spc="-1" strike="noStrike">
                <a:solidFill>
                  <a:srgbClr val="0070c0"/>
                </a:solidFill>
                <a:latin typeface="Century Gothic"/>
              </a:rPr>
              <a:t>merrily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 along with his</a:t>
            </a: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 favorite 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so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Descriptives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Use an adjective to describe someth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Use an adverb to describe an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epos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Prepositions are also added to sentences to indicate location in space or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ink of everything a squirrel can do to a tree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epositional phr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Nouns behind prepositions indicate where/when something happe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Called “objects of preposition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Make up prepositional phr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 dog ran </a:t>
            </a: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around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 the t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Katie dances </a:t>
            </a: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in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 her apart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My cat cuddles with me </a:t>
            </a: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at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 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reposition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ry to create a prepositional ph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nglish Sentence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2285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Complete sentences must contain a </a:t>
            </a: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subject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 and a </a:t>
            </a:r>
            <a:r>
              <a:rPr b="1" lang="en-US" sz="3200" spc="-1" strike="noStrike">
                <a:solidFill>
                  <a:srgbClr val="0070c0"/>
                </a:solidFill>
                <a:latin typeface="Century Gothic"/>
              </a:rPr>
              <a:t>predicate</a:t>
            </a: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ubject: usually a noun that indicates what the sentence is ab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Predicate: verb or verb phrase describing what is happening to the su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Can be very simple to very, very compl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xamples of simple sent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 dog 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ubject: “dog;” predicate: “at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Katie d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ubject: “Katie;” predicate: “dances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I am hung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ubject: “I;” predicate: “am hungry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ord 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Sentences can contain Nouns, Verbs, Adverbs, Adjectives, and Prepos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Sentence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Create a simple senten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Using linking 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2133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Linking verbs do not have action, per se, but are used to describe a no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Sometimes they are “to be” verbs: am, is, are, was, wer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 word used to describe the noun that comes after the linking verb is called the subject comple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When do we use linking verb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o describe the subject of the sentence rather than giving it an 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Example: “The cat is tired,” “I am hungry,” “He is pretty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inking Verb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Create a sentence with a linking ver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Sentences can also have objec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Objects are nouns which receive an 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xamples of sentences with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22860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 boy ate chocolate c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The boy” is the subject; “ate” is the predicate; “chocolate cake” is the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Katie threw the ba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Katie” is the subject; “Threw” is the predicate; “the ball” is the objec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Direct vs. Indirect Ob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wo types of objects: direct vs. indi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Direct objects: answers the question “what,” or “who?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Indirect objects answer the question, “to whom,” or “for what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Katie threw the ball to Whit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Subject: “Katie;” Predicate: “threw;” Direct object: “the ball;” indirect object: “Whitney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bject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Create a sentence with a direct and indirect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 big, black cat happily chased the mouse down the hall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Nou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1337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Nouns include people, places, and things and can be singular or plu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Nouns can be concrete or abstra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Concrete nouns are touchable, such as cat, fish, bird, scissors, cup, table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Abstract nouns include ideas such as happiness, sadness, harmony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Now you tr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Create a sentence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An adjective and adver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A direct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A prepositional ph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re are other things sentences can contain, such as coordinating conjunctions, subordinate conjunctions, and relative pronou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Noun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Nouns can be the subject, direct object, indirect object, or object of a preposition in a clau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Noun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Name two concrete nou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Name two abstract nou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Verbs indicate action and can be conjugated to indicate ten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Verbs can also link a subject and a subject compliment in order to describe a subje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Verb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Verbs typically go after the subject of a sentence to indicate the action the subject is takin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Verb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Name two action ver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Descriptive words: Adjectives and Adverb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Adjectives describe no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Pretty, ugly, blue, large, sma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Adverbs describe ver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Often identifiable by “ly” en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entury Gothic"/>
              </a:rPr>
              <a:t>Prettily, horribly, often,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4:28:25Z</dcterms:created>
  <dc:creator>DIEPENBROCK</dc:creator>
  <dc:description/>
  <dc:language>en-US</dc:language>
  <cp:lastModifiedBy>excom</cp:lastModifiedBy>
  <dcterms:modified xsi:type="dcterms:W3CDTF">2019-01-09T07:48:59Z</dcterms:modified>
  <cp:revision>117</cp:revision>
  <dc:subject/>
  <dc:title>Slide 1</dc:title>
</cp:coreProperties>
</file>