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FF5-D0D2-46D6-94AE-E0BB03E1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C5A-76AB-4B69-BE22-0E61F614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333-E45A-4A26-8242-ABCCCD3B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986-4FB2-448D-9B20-2764811D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0F3-1263-43D5-9451-3EF5DCE6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2D6-C5B6-4ADE-987E-757EC7A5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617-E23C-4ABF-8CC7-21DB1005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D05-9083-4EBE-8989-2439DC01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C34-373A-4B6C-85C9-ECFD82E4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12A-18A6-4D35-98FD-593245E0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AAD-0A2A-4893-8A91-508DED7B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F7E-5399-4F0F-A64C-AC7F8FEB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4706-7DF0-4B8A-AA96-3DA887482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and Dependent Clau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8ec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group of words that contain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xpress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thou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n independent clause is a senten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Jim studied in the cafeteria for his chemistry qu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pendent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group of words that contain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 do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express a complete thou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 dependent clause cannot be a sentence. Often a dependent clause is marked b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ent marker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When Jim studied in the cafeteria for his Chemistry quiz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a sentenc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endent Marker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solidFill>
            <a:srgbClr val="e8ec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pendent marker 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ord added to the beginning of an independent clause that makes it into a dependent cla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Jim studied in the cafeteria for his chemistry quiz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a sentenc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mon dependent markers ar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after, although, as, as if, because, before, even if, even though, if, in order to, since, though, unless, until, whatever, when, whenever, whether, and whi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ing dependent and independent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8ec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s of words that can be used as connectors at the beginning of an independent cl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rdinating conj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t marke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ing Conj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solidFill>
            <a:srgbClr val="e8ec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conjunctions are used as connecting words at the beginning of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: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for, and, nor, but, or, yet, &amp; 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FANBO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econd independent clause in a sentence begins with a coordinating conjunction, a comma is needed before the coordinating conj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cc"/>
                </a:solidFill>
                <a:uFillTx/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Jim studied in the cafeteria for his chemistry quiz, </a:t>
            </a:r>
            <a:r>
              <a:rPr b="0" lang="en-US" sz="2000" spc="-1" strike="noStrike" u="sng">
                <a:solidFill>
                  <a:srgbClr val="ff33cc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 it was hard to concentrate because of the noi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Marker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8ecb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mon independent marker words are: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lso, consequently, furthermore, however, moreover, nevertheless, and ther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ependent marker word is a connecting word used at the beginning of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words can always begin a sentence that can stand al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econd independent clause in a sentence has an independent marker word, a semicolon is needed before the independent marker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cc"/>
                </a:solidFill>
                <a:uFillTx/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: Jim studied in the cafeteria for his chemistry quiz; 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however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 it was hard to concentrate because of the noi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er Punctua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examples of ways to combine independent and dependent clauses prope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66236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. I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nt to the store. I didn't buy any bre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; I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nt to the store; I didn't buy any bre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,CC I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nt to the store, but I didn't buy any bre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; IM, I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nt to the store; however, I didn't buy any bre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, I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 went to the store, I didn't buy any bre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  <a:tr h="754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 D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n't buy any bread when I went to the sto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21:43:25Z</dcterms:created>
  <dc:creator>akooshian</dc:creator>
  <dc:description/>
  <dc:language>en-US</dc:language>
  <cp:lastModifiedBy>DR.Ahmed Saker 2O11</cp:lastModifiedBy>
  <dcterms:modified xsi:type="dcterms:W3CDTF">2019-01-01T15:49:16Z</dcterms:modified>
  <cp:revision>3</cp:revision>
  <dc:subject/>
  <dc:title>Independent and Dependent Clauses</dc:title>
</cp:coreProperties>
</file>