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11E-1A18-421D-80DB-F0B279B6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B87-D934-4806-A280-A0FAB719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5C7-7573-476D-A544-2B8BC601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E6A-2C6C-44D7-92FB-940C62F8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01D-A114-49F7-BB24-97B54247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AF4-3034-4448-83F8-B64AF788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380-EB95-4A71-88E1-5BCBA0C1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4DD-C58F-4BF6-B08F-0C9F09CF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D2B-B593-45A8-AABA-8E0E59F1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CF4-41CB-407E-9C33-9B3D791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E7C-0937-4699-87F4-67D87004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F82-BB13-4B4F-B7C1-4695569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CC27-D76D-4325-A636-900E433C1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and Dependent Clau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group of words that contain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xpress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h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n independent clause is a senten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Jim studied in the cafeteria for his chemistry qu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pendent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group of words that contain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express a complete th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 dependent clause cannot be a sentence. Often a dependent clause is marked b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 marker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When Jim studied in the cafeteria for his Chemistry quiz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a sentenc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endent Marker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pendent marker 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ord added to the beginning of an independent clause that makes it into a dependent cla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Jim studied in the cafeteria for his chemistry quiz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a sentenc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mon dependent markers ar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after, although, as, as if, because, before, even if, even though, if, in order to, since, though, unless, until, whatever, when, whenever, whether, and whi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ng dependent and independent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words that can be used as connectors at the beginning of an independent cl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ting conj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 marke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ing Conj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conjunctions are used as connecting words at the beginning of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: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for, and, nor, but, or, yet, &amp; 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FANBO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econd independent clause in a sentence begins with a coordinating conjunction, a comma is needed before the coordinating conj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cc"/>
                </a:solidFill>
                <a:uFillTx/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Jim studied in the cafeteria for his chemistry quiz, </a:t>
            </a:r>
            <a:r>
              <a:rPr b="0" lang="en-US" sz="2000" spc="-1" strike="noStrike" u="sng">
                <a:solidFill>
                  <a:srgbClr val="ff33cc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 it was hard to concentrate because of the no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Marker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8ecb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mon independent marker words are: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lso, consequently, furthermore, however, moreover, nevertheless, and ther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ependent marker word is a connecting word used at the beginning of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words can always begin a sentence that can stand al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econd independent clause in a sentence has an independent marker word, a semicolon is needed before the independent marker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cc"/>
                </a:solidFill>
                <a:uFillTx/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: Jim studied in the cafeteria for his chemistry quiz;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however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 it was hard to concentrate because of the no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er Punctua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examples of ways to combine independent and dependent clauses prop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66236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.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nt to the store.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;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nt to the store;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,CC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nt to the store, but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; IM,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nt to the store; however,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, 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 went to the store, I didn't buy any bre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  <a:tr h="75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 D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n't buy any bread when I went to the sto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ec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21:43:25Z</dcterms:created>
  <dc:creator>akooshian</dc:creator>
  <dc:description/>
  <dc:language>en-US</dc:language>
  <cp:lastModifiedBy>DR.Ahmed Saker 2O11</cp:lastModifiedBy>
  <dcterms:modified xsi:type="dcterms:W3CDTF">2019-01-01T15:49:16Z</dcterms:modified>
  <cp:revision>3</cp:revision>
  <dc:subject/>
  <dc:title>Independent and Dependent Clauses</dc:title>
</cp:coreProperties>
</file>