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9AC8-EBDC-442A-B7B9-85F5FBFC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81D-C008-4E21-A7F6-8E2AEED5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03CA-72A7-409F-A49B-19A50A5E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04AA-9A53-417C-9021-AA16D347A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6BF2-F016-4690-BD74-80546228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1EC3-3AA7-4B40-8F1D-2B1D67C1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4F14-10EE-4E9B-86B7-16CE2D28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F0CC-BC51-4915-ABCE-32B606F9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9606-4210-4195-83FE-672AA86C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FA30-7D53-4663-9AC5-81761C4C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C01E-D625-449B-9E67-D5AFC85D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2F58-7057-4C86-98C2-E77A0B30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D423-A6A3-4095-873D-EAA18A20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34AF-6753-4D6C-9994-0606F4AE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C809-9B9E-4E30-8A46-EA80330B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007A-8483-4533-AFCD-DCE82605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06E1-29B9-4057-BFC2-07C96DDA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6975-C521-491F-A3EF-68EF3557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06CC-6367-4374-9EE3-4C6F6E69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F3A-6F74-45C7-A57B-04B5744E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6204-D307-4B0B-9270-FA305F62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0C1C-52C4-45C2-8AAB-6673F610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829-C67A-47BE-BF5D-6B0525BF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F58-538E-4102-AB6E-92A6B3BB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916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2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91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892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893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94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895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896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897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898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899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900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901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902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903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904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1A34-7D1E-471F-A1B8-913F5A06FDD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9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91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2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4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904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912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92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893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894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895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96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897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898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899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900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901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902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903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76A7-1CCA-4C7B-96F0-B373515B8AE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arts of Speech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83528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unctions of Word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art of Speech: ADJECTIV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djectives describe, limit or modify a noun or pronoun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 blu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ress was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beautiful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rticl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finite: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 the</a:t>
            </a: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definite: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 a, an</a:t>
            </a: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art of Speech: ADVERB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dverbs modify or describe: verbs, adverbs, and adjective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 ran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 quickly. </a:t>
            </a: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 ran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 Narrow"/>
              </a:rPr>
              <a:t>very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 quickly.</a:t>
            </a: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dress was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 cobalt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lue.</a:t>
            </a: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art of Speech: PREPOSI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epositions link a noun or pronoun to other words in the sentence creating a PREPOSITIONAL PHRASE: preposition + nou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e ran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 to the bus.</a:t>
            </a: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he met me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at six o’clock.</a:t>
            </a: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Function of  PREPOSITION in Sentenc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epositional phrases always modify or describe something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djectival prepositional phrases: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stew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for dinne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 delicious.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dverbial prepositional phrases: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e stew was made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with beef, potatoes, carrots and onions.</a:t>
            </a: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art of Speech: CONJUN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junctions connec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ordinate conjunctio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and, or, nor, so, for, but, yet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rrelative conjunctio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oth…and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either…or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neither…nor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Not only…but also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Whether…or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ubordinate conjunctio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Function of  CONJUNC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in Sentenc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81080" y="16765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Coordinat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junctions -- connect words, phrases or clauses of equal weight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ck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Jill went up the hill.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ck fell down,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Jill came tumbling after.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Correlativ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junctions – always used in pairs also connect terms of equal weight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oth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ck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ill went up the hill.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Not onl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Jack did fall down,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Jill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also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tumbled after him.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Subordinate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conjunctions – create dependant clauses by introducing adverb clause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Whe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ck fell down, Jill tumbled after.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omm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ubordinate Conjunction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fter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lthough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s if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ecaus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efor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f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nc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71500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nc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nles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nti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e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enever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er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il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art of Speech: INTERJE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terjections exclaim or express emotions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Ouch</a:t>
            </a: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Alas</a:t>
            </a: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Oh</a:t>
            </a: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All those words you curse with</a:t>
            </a:r>
            <a:endParaRPr b="1" lang="en-US" sz="32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art of Speech: VERB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Verbs express action, state of being or condi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Function of  VERB in Sentenc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in verb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tion: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 walk, sing, fly</a:t>
            </a: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ate of being or linking: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 is, feel</a:t>
            </a: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uxiliary (helping) verbs – combine with main verbs to create verb phras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e: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 am walking, was sung</a:t>
            </a: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ave: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 had flown</a:t>
            </a: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art of Speech: NOU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ouns nam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Person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Place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hing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Abstraction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dea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mo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inds of nou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ommon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Proper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incipal Parts of Verb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finitive: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o b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person present tense: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i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person past tense: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wa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ast participle: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bee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o have, has, had, had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o walk, walks, walked, walked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o sing, sings, sang, sung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o fly, flies, flew, flow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VERB Tens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sent: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I walk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he bird flies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ast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I walked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he bird flew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uture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I shall walk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he bird will fly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erfect VERB Tens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sent Perfec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I have walked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he bird has flown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ast Perfec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I had walked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he bird had flown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uture Perfec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I shall have walked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he bird will have flown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rogressive VERB Tens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sent progressiv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I am walking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he bird is flying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ast progressiv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I was walking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he bird was flying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uture progressiv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I shall be walking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he bird will be flying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VERB Voic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ctive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Jack threw the ball</a:t>
            </a: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assiv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The ball was thrown by Jack</a:t>
            </a:r>
            <a:endParaRPr b="1" lang="en-US" sz="28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VERB Mood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dicative – makes a statemen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he cow jumped over the moon.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errogative – asks a questi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Who jumped over the moon?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mperative – gives a command or direct reques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Jump over the moon.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ubjunctive – expresses a wish or contrary-to-fact statemen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If the cow jump over the moon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 will be surprised.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 wish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the cow would jump over the moon.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VERBAL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arts of verbs that function as nouns, adjectives or adverb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sent participle: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being, walking, singing, flying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1" lang="en-US" sz="2000" spc="-1" strike="noStrike">
                <a:solidFill>
                  <a:srgbClr val="0066ff"/>
                </a:solidFill>
                <a:latin typeface="Arial Narrow"/>
              </a:rPr>
              <a:t>flying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bird overhead is a blue heron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ast participle: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been, walked, sung, flown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he opera </a:t>
            </a:r>
            <a:r>
              <a:rPr b="1" lang="en-US" sz="2000" spc="-1" strike="noStrike">
                <a:solidFill>
                  <a:srgbClr val="0066ff"/>
                </a:solidFill>
                <a:latin typeface="Arial Narrow"/>
              </a:rPr>
              <a:t>sung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last night was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Carmen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initive: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to be, to walk, to sing, to fly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 Narrow"/>
              </a:rPr>
              <a:t>To walk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a mile every day is healthy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erund (always as a noun):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being, walking, singing, flying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66ff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 Narrow"/>
              </a:rPr>
              <a:t>Flying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is his pass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Function of  NOUN in Sentenc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ubject: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Jack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jumped over the candlestick. 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rect object: 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ry had a littl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lamb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ck sent Mary an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invitatio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direct object: 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ck sent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Mar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an invitation.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bject of the preposition: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ack jump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ove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the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candlestick.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un fun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oun in direct address: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Jack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will you help me?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ppositive: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r. Smith, the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groce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rang up my bill.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dicate nominative or subject complement: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r. Smith is a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grocer.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ossessive: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Jack’s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ail has a hole in it.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boys’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ame was cancelled.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men’s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ame was cancelled.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Part of Speech: PRONOU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nouns replace nouns:  stand-in for a person, place thing or abstraction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e noun replaced by the pronoun is known as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the anteceden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Function of  PRONOUN in Sentenc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nouns have all the same functions as nouns.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Kinds of PRONOUN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ersonal pronouns – replace nou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s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so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singular: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I, me, my, mine  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s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so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plural: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we, us, our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n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so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you, you, your (thou, thee, thine)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person singular: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He,she,it; him, her, it;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his, hers, its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 Note the possessive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its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s no apostrophe!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it’s = it is )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person plural: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They, them, their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errogative pronouns – ask question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Who, whom, whose?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Which, what?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Kinds of Pronoun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definite pronouns – do not require an antecedent: 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ngular: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another, any, each, nothing, one, anyone, everyone, everybody, everything, someone, something, either, neither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ural: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few, many, some, all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lative pronouns -- create a dependent clause by introducing a noun or adjective clause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man,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who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hit my car, did not give me his license numbe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who, whom, whose,  whoever, which, whichever, what, whatever,  that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Kinds of Pronoun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monstrative pronouns – poin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his, these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That, those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tensive pronouns – emphasize preceding noun. Same form as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flexive pronouns – receive the action of the subject who is the same person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ngular: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Myself, yourself, himself, herself, itself, oneself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lural: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ourselves, yourselves, themselves </a:t>
            </a:r>
            <a:endParaRPr b="1" lang="en-US" sz="2400" spc="-1" strike="noStrike">
              <a:solidFill>
                <a:srgbClr val="ff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14:52:33Z</dcterms:created>
  <dc:creator>jonesj</dc:creator>
  <dc:description/>
  <dc:language>en-US</dc:language>
  <cp:lastModifiedBy>DR.Ahmed Saker 2O11</cp:lastModifiedBy>
  <dcterms:modified xsi:type="dcterms:W3CDTF">2019-01-01T16:20:40Z</dcterms:modified>
  <cp:revision>7</cp:revision>
  <dc:subject/>
  <dc:title>Parts of Speech</dc:title>
</cp:coreProperties>
</file>