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374F-FD5B-4C0D-9E34-A86C8280C5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630D-B2DA-4CAC-8E3A-83F92E7FBF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2D41-0E8A-4937-8DCC-C696F8100F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2E10-5FEB-4572-A848-BFCDD0AB62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7813-6C01-4A20-BCE3-11BCEE6E9A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CDDF-5861-4C50-A206-10D17D7D51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AB53-821E-46A7-9F8B-4EF9CAE31C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A54C-9A3D-41A8-B9CF-837EF2E921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88FE-5B95-4FE2-BDED-4EF129DE2C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DD4C-1025-4248-A27B-DA708EB994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3727-6D69-4D95-AE2C-A30C808D3E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9156-C793-4674-AE59-B816D6CCBE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B00C-7877-405B-8B8B-1ED7D6BA94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C9DC-62FA-44F3-BF75-402D4B11B0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E37F-72F0-4E87-A879-41B5C9BC15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2907-3B31-46FD-83BE-2667B387BB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9CFD-D419-436E-88F8-D679B06752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14E9-4C6D-4E09-A49C-D8BB4F3853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CDB7-7214-412B-99A7-C1C66FB4D8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E108-CD09-45DB-9C25-556983FF03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900-A1C5-4949-A348-14D9A8D6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BE2-B870-45A0-9CCA-08FC54A5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E38-1467-4CD0-A9EA-6DF7F5EE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772-E70B-40F0-81B9-241A3B8C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DC18-19A8-4FCC-BCCD-86F0C8B0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7AF6-BA0F-4262-B4B0-EE862CA7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57D6-2E06-467B-8FA2-EE6CEDD7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1C18-EB6B-4D74-8F8A-25120800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AE68-A6D9-49F1-B594-EB907640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740A-3186-4366-A89B-6634270A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B752-462F-4657-B592-4CCB58C6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77F-A10C-43B7-902E-CB2A777C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0FE8-0ADE-43BF-A72D-C4BA4E73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BF1E-717B-4640-8F40-3FF2C43E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3D8D-8AD7-4D20-821C-4FAD1BBD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9501-7EF1-431B-9F50-FCB62793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36D2-F88C-47B4-9AFD-B5DE7491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AF4-E4BD-4D2D-8AA4-D26DEDD5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49E-C8DC-4A3E-9852-00D460D5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562-3478-4330-8C6A-E55B80D1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4BF-A7C5-4E89-BD1C-7889918F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E7E-9946-4E68-94A3-3FE34BA7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0C4-13B7-471A-ACB1-21796BDF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667-785F-4FD1-A932-FBC17F4D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43E0-2F18-42F2-A341-5EB45852B47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9583-AB1C-471A-8A8E-123EECD5BB1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Verb phra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56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 refe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ndolph Quirk and Sidney Greenbaum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 University Grammar of Engli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Longman: London, 1973. (3.23 – 3.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Past Perf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has been said in the previous slides applies to past perfect as well, B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point of current relevance to which the past perfect extends is a point in the past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900000" y="458136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3995640" y="436572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680 h 360360"/>
              <a:gd name="textAreaBottom" fmla="*/ 2116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11" y="8911"/>
                </a:lnTo>
                <a:lnTo>
                  <a:pt x="10800" y="0"/>
                </a:lnTo>
                <a:lnTo>
                  <a:pt x="12689" y="8911"/>
                </a:lnTo>
                <a:lnTo>
                  <a:pt x="21600" y="10800"/>
                </a:lnTo>
                <a:lnTo>
                  <a:pt x="12689" y="12689"/>
                </a:lnTo>
                <a:lnTo>
                  <a:pt x="10800" y="21600"/>
                </a:lnTo>
                <a:lnTo>
                  <a:pt x="8911" y="12689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2340000" y="4365720"/>
            <a:ext cx="287280" cy="863640"/>
          </a:xfrm>
          <a:custGeom>
            <a:avLst/>
            <a:gdLst>
              <a:gd name="textAreaLeft" fmla="*/ 118440 w 287280"/>
              <a:gd name="textAreaRight" fmla="*/ 168840 w 287280"/>
              <a:gd name="textAreaTop" fmla="*/ 356400 h 863640"/>
              <a:gd name="textAreaBottom" fmla="*/ 5072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11" y="8911"/>
                </a:lnTo>
                <a:lnTo>
                  <a:pt x="10800" y="0"/>
                </a:lnTo>
                <a:lnTo>
                  <a:pt x="12689" y="8911"/>
                </a:lnTo>
                <a:lnTo>
                  <a:pt x="21600" y="10800"/>
                </a:lnTo>
                <a:lnTo>
                  <a:pt x="12689" y="12689"/>
                </a:lnTo>
                <a:lnTo>
                  <a:pt x="10800" y="21600"/>
                </a:lnTo>
                <a:lnTo>
                  <a:pt x="8911" y="12689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116000" y="4437000"/>
            <a:ext cx="1368360" cy="287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1547640" y="38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419640" y="3860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6227640" y="4005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1116000" y="5157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evant point in the 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ense and asp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nse is ALWAYS marked on the first element of the verb phr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gressive aspect = primary auxiliary B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-ing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erfect aspect = primary auxiliary HA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-ed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partici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first element of the V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VP contains a modal auxiliary, tense will be marked on the mod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ach auxiliary dictates the form which the following element ta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ane likes mu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ane *might likes mu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ane *might liked mu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ane might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mus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 rot="5400000">
            <a:off x="3274560" y="5373720"/>
            <a:ext cx="792000" cy="1223640"/>
          </a:xfrm>
          <a:custGeom>
            <a:avLst/>
            <a:gdLst>
              <a:gd name="textAreaLeft" fmla="*/ 0 w 792000"/>
              <a:gd name="textAreaRight" fmla="*/ 678960 w 792000"/>
              <a:gd name="textAreaTop" fmla="*/ 815760 h 1223640"/>
              <a:gd name="textAreaBottom" fmla="*/ 1224000 h 1223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4427640" y="59500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able 5.1 and 5.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ws that each element (from left to right) triggers the next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5.2 &gt; pay attention to the primary auxiliary verb BE, which can trigger both the –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ing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m and the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–ed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m, depending on wh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rks (either progressive aspect or passive voi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Voice (active /passiv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o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 deals with the relationship between the VP and the NP as subjec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o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 the contrast between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(voice) and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(voic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Tom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ats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 an app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An apple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is eaten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 by T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Voice (active /passiv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passive phrase contains an additional auxiliary from the primary verb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marks the progressive, it triggers the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–ing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marks the passive voice, it triggers the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–ed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pare tables 5.1 and 5.2: the passive voice always has one extra verb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inite and non-finite verb phr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ite verb phrases have tense disti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ite verb phrases occur as the verb element of a clause. There is person and number concord between the subject and the finite ver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he read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y re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1476360" y="1773360"/>
            <a:ext cx="1871640" cy="1081080"/>
          </a:xfrm>
          <a:prstGeom prst="hexagon">
            <a:avLst>
              <a:gd name="adj" fmla="val 43282"/>
              <a:gd name="vf" fmla="val 11547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ud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564000" y="2060640"/>
            <a:ext cx="237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2627280" y="4292640"/>
            <a:ext cx="360360" cy="647640"/>
          </a:xfrm>
          <a:custGeom>
            <a:avLst/>
            <a:gdLst>
              <a:gd name="textAreaLeft" fmla="*/ 0 w 360360"/>
              <a:gd name="textAreaRight" fmla="*/ 129960 w 360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3132000" y="4365720"/>
            <a:ext cx="424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paper every mor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inite and non-finite verb phr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844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n -finite forms of the verb are the infinitive (to call), the -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participle (calling) and the –ed participle (called) &gt; See p. 109-1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11280" y="3357720"/>
          <a:ext cx="8208720" cy="2827080"/>
        </p:xfrm>
        <a:graphic>
          <a:graphicData uri="http://schemas.openxmlformats.org/drawingml/2006/table">
            <a:tbl>
              <a:tblPr/>
              <a:tblGrid>
                <a:gridCol w="4105080"/>
                <a:gridCol w="41036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te verb phras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finite verb phras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avi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moke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ke that must be dangerou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work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ound him </a:t>
                      </a: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been offended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ing been offended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, he was sensi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will a VP compris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lexical verb + any auxili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There’s an excep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en an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dverb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rrupts the verb phr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i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certainly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een told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x 2 and 4-6 p 177-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ad p. 101-111 (5.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vise tenses on your grammar book (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Inside Grammar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ges 30-33 and 68-7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MCj04382470000[1]"/>
          <p:cNvPicPr/>
          <p:nvPr/>
        </p:nvPicPr>
        <p:blipFill>
          <a:blip r:embed="rId1"/>
          <a:stretch/>
        </p:blipFill>
        <p:spPr>
          <a:xfrm>
            <a:off x="611280" y="1844640"/>
            <a:ext cx="6141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How many element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noun phras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has the potential to be extremely l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verb phrase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ll never have more than 6 el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Those naughty children </a:t>
            </a:r>
            <a:r>
              <a:rPr b="0" i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might have been being told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s kind of verb phrase is R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verb phrase may be simple and consist of just a lexical ver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ense, aspect and moo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ime is a universal, non-linguistic concept with three divisions: past, present and future. By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ense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 understand the correspondence between the form of the verb and our concept of time.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spect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cerns the manner in which the verbal action is experienced or regarded (for example as completed or in progress), while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mood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relates the verbal action to such conditions as certainty, obligation, necessity, possibility. (Quirk: 4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e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t is a grammatical ending on a verb stem NOT a semantic reference to a particular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re is no future tense in Engli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expression of future is closely bound up with m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expression of time present and past cannot be considered separately from asp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I … with a special p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MELESS simple pre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 (always)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with a special p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MITED present progres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am writing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(on this occasion) with a special pen (since I have mislaid my ordinary on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STANTANEOUS simple or progres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atch carefully now: first I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with my ordinary pen; now I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with a special p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s you see, I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am dropping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stone into the wa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An action in the past may be see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having taken place at a particular point in time;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ver a period; if the latter, the period may be seen 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tending up to the present,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lating only to the past; if the latter, it may be viewed 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474840">
              <a:spcBef>
                <a:spcPts val="550"/>
              </a:spcBef>
              <a:buClr>
                <a:srgbClr val="cccc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ving been completed, or 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474840">
              <a:spcBef>
                <a:spcPts val="550"/>
              </a:spcBef>
              <a:buClr>
                <a:srgbClr val="cccc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 having been compl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1042920" y="472428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1042920" y="515772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1042920" y="551664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1042920" y="595008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250920" y="4581360"/>
            <a:ext cx="57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b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3"/>
          <p:cNvSpPr/>
          <p:nvPr/>
        </p:nvSpPr>
        <p:spPr>
          <a:xfrm>
            <a:off x="1692360" y="450864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4"/>
          <p:cNvSpPr/>
          <p:nvPr/>
        </p:nvSpPr>
        <p:spPr>
          <a:xfrm>
            <a:off x="3924360" y="450864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5"/>
          <p:cNvSpPr/>
          <p:nvPr/>
        </p:nvSpPr>
        <p:spPr>
          <a:xfrm>
            <a:off x="3924360" y="494172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6"/>
          <p:cNvSpPr/>
          <p:nvPr/>
        </p:nvSpPr>
        <p:spPr>
          <a:xfrm>
            <a:off x="3924360" y="530064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7"/>
          <p:cNvSpPr/>
          <p:nvPr/>
        </p:nvSpPr>
        <p:spPr>
          <a:xfrm>
            <a:off x="3924360" y="573408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1476360" y="4149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3492360" y="4076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6227640" y="4005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1835280" y="5013360"/>
            <a:ext cx="2232000" cy="287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1835280" y="5373720"/>
            <a:ext cx="1368360" cy="287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1835280" y="5805360"/>
            <a:ext cx="1368360" cy="287640"/>
          </a:xfrm>
          <a:prstGeom prst="rect">
            <a:avLst/>
          </a:prstGeom>
          <a:solidFill>
            <a:srgbClr val="cc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3203640" y="5805360"/>
            <a:ext cx="431640" cy="289080"/>
          </a:xfrm>
          <a:prstGeom prst="rect">
            <a:avLst/>
          </a:prstGeom>
          <a:solidFill>
            <a:srgbClr val="cc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1403280" y="5805360"/>
            <a:ext cx="432000" cy="289080"/>
          </a:xfrm>
          <a:prstGeom prst="rect">
            <a:avLst/>
          </a:prstGeom>
          <a:solidFill>
            <a:srgbClr val="cc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Exampl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wrote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y letter of 16 June 1972 with a special p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have written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ith a special pen since 197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bi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wrote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ith a special pen from 1969 to 1972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bii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was writing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oetry with a special p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1042920" y="472428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1042920" y="515772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1042920" y="551664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042920" y="595008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0920" y="4581360"/>
            <a:ext cx="57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b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692360" y="450864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3924360" y="450864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3924360" y="494172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3924360" y="530064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3924360" y="573408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1476360" y="4076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492360" y="4076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6227640" y="4005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1835280" y="5013360"/>
            <a:ext cx="2232000" cy="287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1835280" y="5373720"/>
            <a:ext cx="1368360" cy="287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1835280" y="5805360"/>
            <a:ext cx="1368360" cy="287640"/>
          </a:xfrm>
          <a:prstGeom prst="rect">
            <a:avLst/>
          </a:prstGeom>
          <a:solidFill>
            <a:srgbClr val="cc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3203640" y="5805360"/>
            <a:ext cx="431640" cy="289080"/>
          </a:xfrm>
          <a:prstGeom prst="rect">
            <a:avLst/>
          </a:prstGeom>
          <a:solidFill>
            <a:srgbClr val="cc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1403280" y="5805360"/>
            <a:ext cx="432000" cy="289080"/>
          </a:xfrm>
          <a:prstGeom prst="rect">
            <a:avLst/>
          </a:prstGeom>
          <a:solidFill>
            <a:srgbClr val="cc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PRESENT perf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relation to 2a it is not the time specified in the sentence, but the period relevant to the time specified that must extend to the pres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hn lived in Paris for ten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hn has lived in Paris for ten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rough its ability to involve a span of time from earliest memory to the present,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resent perfect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s an indefiniteness which makes it an appropriate verbal expression for introducing a topic of discour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But where is John no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John lived in Paris for ten year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tails that the period of residence has come to an end and admits the possibility that John is d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John has lived in Paris for ten year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tails that John is still alive but permits the residence in Paris to extend either to the present (the usual interpretation) or to some unspecified date in the pa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6:39:56Z</dcterms:created>
  <dc:creator>Io</dc:creator>
  <dc:description/>
  <dc:language>en-US</dc:language>
  <cp:lastModifiedBy>DR.Ahmed Saker 2O11</cp:lastModifiedBy>
  <dcterms:modified xsi:type="dcterms:W3CDTF">2019-01-01T14:35:50Z</dcterms:modified>
  <cp:revision>23</cp:revision>
  <dc:subject/>
  <dc:title>Diapositiva 1</dc:title>
</cp:coreProperties>
</file>