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7887-7B34-486D-A7EB-D333B42763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173-382E-4852-9113-9F931AB0E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315-4CBB-48EB-B4C7-4B04CF136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850-A8F3-497C-93B3-CFCCFB901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32F-CCE4-4E25-AAFB-5CAC5417A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FB14-49CC-4B84-95F6-BBCD2B6A8F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927B-D665-4D7C-B055-531DB55A3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C92E-2D44-433A-A1A7-2DAA9EECD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E2A-1C47-4688-AA66-01598E5E1F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9591-9FD6-40EB-AEDB-0B76416ECB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B38-9241-47EE-AB76-CEAD9BA27E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FAE6-1E18-4967-858B-E53FFD8CAC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428-1152-4484-BD80-9D26C7584D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AE4F-85DF-4C3D-ABA7-098414C2A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F2AE-A312-469E-8BA7-98146352C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639-1439-4218-BCDF-987334C8C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DEBD-F458-4E7F-B100-C6CA71E2C0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6EDD-39A6-4565-B402-BF9068B13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41DD-DBE8-4D21-A834-92B2CF731C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7EFA-DE8C-4B3B-AA17-D2E5C5D1BF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009-6D27-407F-AB1E-DD83F1A9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86B-AA00-4ACC-8B06-055A5CE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051-A19A-407F-BF96-291A94F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BDC-7DA3-48DC-8ECD-80EC9952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96BE-647B-4274-96EB-BE82A66A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177B-32DB-406F-BAD6-F22FF620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D34-85C4-4AE4-B971-5182845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F0B-E6FA-4784-8D07-DB6F502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2108-F067-490E-BDF1-A55A55E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867A-50C2-47CC-B82C-20EB4C38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AF50-DCB6-4D68-ABFE-6F4F651F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A42-D920-4F50-BD1D-EB902B1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B7A2-7709-421D-930E-18C0E403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3A7F-6434-4737-B12C-67F2508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ADEB-C697-447C-AEA0-76C6DF6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2D4-4F1D-45C6-A71F-39521111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45A-3D6E-4E42-A295-50CC17C8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855-24D3-4A97-BB69-05656706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8F8-C3AB-43D5-A7EF-399801A1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2C85-2679-4810-BC19-E0BDA2F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49C-BD9C-415F-B8B4-711C7279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6AB-BB3E-455D-AE81-6D073B09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ADC-D924-456E-831B-3B9B2B2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7CB-E844-4104-A831-C0511F2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912D-21B8-4CCF-B970-8C7C8A64386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5E3D-9021-4C74-B33C-F264D555D08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Verb phras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306864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 re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ndolph Quirk and Sidney Greenbaum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 University Grammar of Engli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Longman: London, 1973. (3.23 – 3.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ast Per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has been said in the previous slides applies to past perfect as well, B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oint of current relevance to which the past perfect extends is a point in the past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900000" y="458136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3995640" y="4365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680 h 360360"/>
              <a:gd name="textAreaBottom" fmla="*/ 2116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2340000" y="4365720"/>
            <a:ext cx="287280" cy="863640"/>
          </a:xfrm>
          <a:custGeom>
            <a:avLst/>
            <a:gdLst>
              <a:gd name="textAreaLeft" fmla="*/ 118440 w 287280"/>
              <a:gd name="textAreaRight" fmla="*/ 168840 w 287280"/>
              <a:gd name="textAreaTop" fmla="*/ 356400 h 863640"/>
              <a:gd name="textAreaBottom" fmla="*/ 5072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11" y="8911"/>
                </a:lnTo>
                <a:lnTo>
                  <a:pt x="10800" y="0"/>
                </a:lnTo>
                <a:lnTo>
                  <a:pt x="12689" y="8911"/>
                </a:lnTo>
                <a:lnTo>
                  <a:pt x="21600" y="10800"/>
                </a:lnTo>
                <a:lnTo>
                  <a:pt x="12689" y="12689"/>
                </a:lnTo>
                <a:lnTo>
                  <a:pt x="10800" y="21600"/>
                </a:lnTo>
                <a:lnTo>
                  <a:pt x="8911" y="12689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116000" y="443700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1547640" y="38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419640" y="3860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1116000" y="5157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evant point in the 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 and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nse is ALWAYS marked on the first element of the verb ph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essive aspect = primary auxiliary B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-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rfect aspect = primary auxiliary HA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-e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artici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first element of the V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the VP contains a modal auxiliary, tense will be marked on the mod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ach auxiliary dictates the form which the following element ta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likes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*might likes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*might liked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ane might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us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 rot="5400000">
            <a:off x="3274560" y="5373720"/>
            <a:ext cx="792000" cy="1223640"/>
          </a:xfrm>
          <a:custGeom>
            <a:avLst/>
            <a:gdLst>
              <a:gd name="textAreaLeft" fmla="*/ 0 w 792000"/>
              <a:gd name="textAreaRight" fmla="*/ 678960 w 792000"/>
              <a:gd name="textAreaTop" fmla="*/ 81576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427640" y="5950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ble 5.1 and 5.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ws that each element (from left to right) triggers the next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5.2 &gt; pay attention to the primary auxiliary verb BE, which can trigger both the –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 and the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–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, depending on wh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ks (either progressive aspect or passive voi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Voice (active /pass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o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deals with the relationship between the VP and the NP as su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oic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the contrast between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voice) and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(voic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om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ats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an app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passi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An apple </a:t>
            </a: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is eaten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by To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Voice (active /passiv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passive phrase contains an additional auxiliary from the primary verb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rks the progressive, it triggers the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–ing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marks the passive voice, it triggers the </a:t>
            </a: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–ed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mpare tables 5.1 and 5.2: the passive voice always has one extra verb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nite and non-finite verb phr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te verb phrases have tense disti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ite verb phrases occur as the verb element of a clause. There is person and number concord between the subject and the finite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She read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y re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1476360" y="1773360"/>
            <a:ext cx="1871640" cy="1081080"/>
          </a:xfrm>
          <a:prstGeom prst="hexagon">
            <a:avLst>
              <a:gd name="adj" fmla="val 43282"/>
              <a:gd name="vf" fmla="val 11547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564000" y="2060640"/>
            <a:ext cx="237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627280" y="4292640"/>
            <a:ext cx="360360" cy="647640"/>
          </a:xfrm>
          <a:custGeom>
            <a:avLst/>
            <a:gdLst>
              <a:gd name="textAreaLeft" fmla="*/ 0 w 360360"/>
              <a:gd name="textAreaRight" fmla="*/ 129960 w 360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132000" y="4365720"/>
            <a:ext cx="424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paper every mo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inite and non-finite verb phr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21844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n -finite forms of the verb are the infinitive (to call), the -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participle (calling) and the –ed participle (called) &gt; See p. 109-1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11280" y="3357720"/>
          <a:ext cx="8208720" cy="2827080"/>
        </p:xfrm>
        <a:graphic>
          <a:graphicData uri="http://schemas.openxmlformats.org/drawingml/2006/table">
            <a:tbl>
              <a:tblPr/>
              <a:tblGrid>
                <a:gridCol w="4105080"/>
                <a:gridCol w="41036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ite verb phra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finite verb phra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es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avi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moke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ike that must be dangero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wor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und him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offended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ing been offended </a:t>
                      </a:r>
                      <a:r>
                        <a:rPr b="0" lang="en-GB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, he was sensi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at will a VP compris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lexical verb + any auxili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There’s an excep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en an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rupts the verb ph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certainly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been told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x 2 and 4-6 p 177-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ad p. 101-111 (5.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vise tenses on your grammar book (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Inside Grammar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ges 30-33 and 68-7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MCj04382470000[1]"/>
          <p:cNvPicPr/>
          <p:nvPr/>
        </p:nvPicPr>
        <p:blipFill>
          <a:blip r:embed="rId1"/>
          <a:stretch/>
        </p:blipFill>
        <p:spPr>
          <a:xfrm>
            <a:off x="611280" y="1844640"/>
            <a:ext cx="614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How many element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noun phrase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has the potential to be extremely l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verb phras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ll never have more than 6 el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Those naughty children </a:t>
            </a:r>
            <a:r>
              <a:rPr b="0" i="1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might have been being told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s kind of verb phrase is R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 verb phrase may be simple and consist of just a lexical ver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, aspect and moo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ime is a universal, non-linguistic concept with three divisions: past, present and future. By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ens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understand the correspondence between the form of the verb and our concept of time.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spect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ncerns the manner in which the verbal action is experienced or regarded (for example as completed or in progress), while 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ood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relates the verbal action to such conditions as certainty, obligation, necessity, possibility. (Quirk: 4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e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t is a grammatical ending on a verb stem NOT a semantic reference to a particular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re is no future tense in Engl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pression of future is closely bound up with m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expression of time present and past cannot be considered separately from asp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I … with a special p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IMELESS simple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(always)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MITED present progr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am writ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(on this occasion) with a special pen (since I have mislaid my ordinary on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NTANEOUS simple or progres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atch carefully now: first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my ordinary pen; now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s you see, I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am dropp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stone into the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An action in the past may be see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having taken place at a particular point in time;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ver a period; if the latter, the period may be seen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tending up to the present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0920" indent="-536400"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ating only to the past; if the latter, it may be viewed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474840"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ving been completed, or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474840">
              <a:spcBef>
                <a:spcPts val="550"/>
              </a:spcBef>
              <a:buClr>
                <a:srgbClr val="cccc00"/>
              </a:buClr>
              <a:buSzPct val="7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having been comple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1042920" y="47242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1042920" y="51577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042920" y="551664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104292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50920" y="4581360"/>
            <a:ext cx="57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1692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3924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3924360" y="4941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3924360" y="5300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3924360" y="5734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476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492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1835280" y="5013360"/>
            <a:ext cx="223200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835280" y="537372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835280" y="5805360"/>
            <a:ext cx="1368360" cy="287640"/>
          </a:xfrm>
          <a:prstGeom prst="rect">
            <a:avLst/>
          </a:prstGeom>
          <a:solidFill>
            <a:srgbClr val="cc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203640" y="5805360"/>
            <a:ext cx="43164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403280" y="5805360"/>
            <a:ext cx="43200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Examp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y letter of 16 June 1972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have written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a special pen since 197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bi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rote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with a special pen from 1969 to 1972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bi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was writing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oetry with a special p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1042920" y="47242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1042920" y="515772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042920" y="551664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042920" y="5950080"/>
            <a:ext cx="69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4581360"/>
            <a:ext cx="57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b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692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3924360" y="4508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3924360" y="494172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3924360" y="5300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3924360" y="5734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1476360" y="407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492360" y="4076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6227640" y="400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1835280" y="5013360"/>
            <a:ext cx="223200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1835280" y="5373720"/>
            <a:ext cx="1368360" cy="2872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1835280" y="5805360"/>
            <a:ext cx="1368360" cy="287640"/>
          </a:xfrm>
          <a:prstGeom prst="rect">
            <a:avLst/>
          </a:prstGeom>
          <a:solidFill>
            <a:srgbClr val="cc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203640" y="5805360"/>
            <a:ext cx="43164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403280" y="5805360"/>
            <a:ext cx="432000" cy="289080"/>
          </a:xfrm>
          <a:prstGeom prst="rect">
            <a:avLst/>
          </a:prstGeom>
          <a:solidFill>
            <a:srgbClr val="cc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RESENT per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relation to 2a it is not the time specified in the sentence, but the period relevant to the time specified that must extend to the pres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lived in Paris fo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John has lived in Paris for ten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ough its ability to involve a span of time from earliest memory to the present,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present perfect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s an indefiniteness which makes it an appropriate verbal expression for introducing a topic of discour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But where is John no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hn lived in Paris for ten year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tails that the period of residence has come to an end and admits the possibility that John is d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John has lived in Paris for ten year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tails that John is still alive but permits the residence in Paris to extend either to the present (the usual interpretation) or to some unspecified date in the p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39:56Z</dcterms:created>
  <dc:creator>Io</dc:creator>
  <dc:description/>
  <dc:language>en-US</dc:language>
  <cp:lastModifiedBy>DR.Ahmed Saker 2O11</cp:lastModifiedBy>
  <dcterms:modified xsi:type="dcterms:W3CDTF">2019-01-01T14:35:50Z</dcterms:modified>
  <cp:revision>23</cp:revision>
  <dc:subject/>
  <dc:title>Diapositiva 1</dc:title>
</cp:coreProperties>
</file>