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D4B-3CBA-4370-A386-8E87F1C1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1A9-BA6C-4F3F-887A-021218DC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571-A140-47EF-9853-C6E905D3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6A2-B7FA-4469-A044-230DD6A0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7C06-EAB6-41DF-920E-F84A535E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ED3-4B30-4D7B-AE1D-14F65CEC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4E39-6386-4068-8FE0-6DD348E7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221-45C8-4BF2-96C1-8DF4A28E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524-EF44-41D9-9234-69DBA1E2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109F-3051-427A-A4FF-A76C4743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19E7-D0CF-4C68-AB82-A2CB2A02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C7A-6BB8-4AD0-A69B-9FB0E2DD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F689-D2D3-4CB1-99DC-89439D70F0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ffff"/>
                </a:solidFill>
                <a:latin typeface="Tahoma"/>
              </a:rPr>
              <a:t>Verbs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erb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word that expresse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otherwise helps to make 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tate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xili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itive/Intransi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e/Pass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ici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ive/Passiv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verb is in 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ass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voice when it expresses an action performe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up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ts subject or when the subject is the result of the a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The tre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as h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y a car [subject acted upon]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ive/Passiv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transitive verbs can be used in the passive vo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The thief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o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money. [transitive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The money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as stol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y the thief. [passive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bject has been moved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hea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subject (making it the subject) and the verb combined with a form of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to b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incipal Par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verb has four basic forms called principal par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ini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 partici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t partici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incipal Par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conjugating verbs forms, one should know that verbs can be considered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gul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rregul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See W550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gul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verb is one that creates its past and past participle by add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–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–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infinitiv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present part.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pas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past par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lk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(is) talking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lked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 (have) talk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77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77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incipal Par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rregul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verb is one that forms its past and past participle in som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ther wa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n adding –d or –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infinitiv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present part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past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past par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riv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(is) driving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rov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   (have) driv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te: Because the number of irregular verbs is so great, students must memorize the list on W551-552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ime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verb has six ten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ent perf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t perf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ture perf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2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ime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es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used to express action (or make a statement about something) occurring n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W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a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tientl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W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re wait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tiently. [progressive form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 wa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atiently. [emphatic form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ime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inuing action (the action occurred, is happening, and will continue) may be shown by the use of 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ogress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orm, which ends in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–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makes a sentenc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mphati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y pronouncing the verb with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tr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 When there is no stress, add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i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35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ime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a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used to express action (or to help make a statement about something) that occurred in the past but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id not contin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to the pres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W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ai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yo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W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ere wait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you. [progressive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W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d wa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you. [emphatic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ime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u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used to express action (or to help make a statement about something) occurring at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me time in the fut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by add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h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i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W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ill wa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yo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W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ill be wait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you. [progressive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no future emphat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nking Ver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verbs express 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t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ndi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lin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the subject a noun, pronoun, or an adjective that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scrib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dentif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sub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ord linked to the subject is called it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ject complem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Sarah was serio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ime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esent perfe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used to express action (or to help make a statement about something) occurring in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o definite time in the pa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by add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a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Ted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as wai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us of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W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ave wai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them befo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0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1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24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ime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ast perfe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used to express action (or to help make a statement about something)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mpleted in the past before some other past action or ev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using the word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a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After w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ad wai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ad been wait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an hour, w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ef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[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ait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receded 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eav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ime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uture perfe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used to express action (or to help make a statement about something)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ich will be complete in the future before some other future action or ev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ed by add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ill ha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hall ha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By the time the bus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rriv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w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ill have wai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</a:rPr>
              <a:t>will hav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been wait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an hour. [The waiting precedes the arriving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o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bs may be in one of three mood: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dic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mper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junc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most all verbs are in 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dic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mpera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od is used to indicate a comm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ur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f the televis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Under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correct ans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o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only common uses of 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junc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od are to express 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ndition contrary to fa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to express 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is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ast subjunc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verb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e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If 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e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not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w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you, I’d study my recitations more. [contrary to fact – “I’m not you”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If 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e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not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a millionaire, I’d teach grammar for free. [wish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9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8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o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esent subjunc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ood is used only in certain formal situ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s the present subjunctive verb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We recommend that sh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b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lected presid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ee the conjugated forms on W57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ticiples/Participial Phra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articip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verb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or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at can be used as an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djec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The rapidly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evelop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orm kept the small coats in the po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I found he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ry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ticiples/Participial Phra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two basic kinds of participles: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esent particip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ast particip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ese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ticiples end in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–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a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ticiples may end in a variety of endings (see W449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: We watched the puppies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playing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. (present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x: The puppies,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exhausted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, collapsed. (past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8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3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rticiples/Participial Phras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articipial phra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 phrase containing 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articip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nd any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mplement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difie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t may ha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moving his co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Jack sat in the chai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We saw Jeff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laying in the ga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nking Ver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common linking verb is the verb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s a number of forms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m, are, was were, being, be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nd all verb phrases ending i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e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e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her common linking verbs (W421):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ecom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oo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ee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nking Ver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be deceived.  Many linking verbs can also be used as action verb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The singe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ppea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ervo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The singe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ppea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n T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verb is a linking verb if one can substitute some form of the verb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seem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The audienc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ook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[seemed] happ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Jack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ook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[not seemed] at his no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xiliary Ver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verb ph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made up of a main verb and one or mor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uxiliar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verbs (also called helping verb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xiliary verbs help the main verb to express action or make a state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I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should have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stud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He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must have been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inju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ring the ga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xiliary Ver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uxiliary verbs may be separated from  the main ver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D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d at the movi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W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ot yet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be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Kair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nsitive/Intransitiv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on verbs may (or may not) take an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bje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noun or pronoun that completes the action by showing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what 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ffec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y the 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bs that take objects are calle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transi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yp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y paper until midn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ransitive/Intransitiv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bs that express action without objects are calle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intransi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The rai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fel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yp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until midn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English, most active verbs can be either transitive or intransit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ive/Passiv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verb is in the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c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voice when it expresses an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formed by it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je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The ca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tree. [subject acting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23:24:58Z</dcterms:created>
  <dc:creator>jfeeley</dc:creator>
  <dc:description/>
  <dc:language>en-US</dc:language>
  <cp:lastModifiedBy>DR.Ahmed Saker 2O11</cp:lastModifiedBy>
  <dcterms:modified xsi:type="dcterms:W3CDTF">2019-01-01T14:47:19Z</dcterms:modified>
  <cp:revision>29</cp:revision>
  <dc:subject/>
  <dc:title>Verbs</dc:title>
</cp:coreProperties>
</file>