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013B2-7A34-4BD8-8C2A-925C5E393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D5F8B-498C-4954-9BC2-23EEB5696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4B423-50A2-4860-84D4-542BBCE9E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64F5F-DA68-478F-81F6-3CF5AB4A6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CC0C7-7A73-4039-AB04-5AA7B1241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43DBA-5F94-4587-8C13-924B99D45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8914D-81AB-4E56-8171-23FC6ADDA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1EA21-D2C1-4FEF-8FAB-557188665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79142-D855-4BB1-BD8A-5CEB243FF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3D6C2-3902-4564-A27B-C5AF789D7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8D3DD-DCC0-4D1A-B8A7-672568FBC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38E7E-E5EF-4514-AFBC-C38747982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392C-6792-4770-B411-D349FF05AC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00160" y="83880"/>
            <a:ext cx="8820000" cy="6554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alibri"/>
                <a:cs typeface="Times New Roman"/>
              </a:rPr>
              <a:t>محاضرة جغرافية الصناعة والتعدين</a:t>
            </a:r>
            <a:br>
              <a:rPr sz="2800"/>
            </a:br>
            <a:r>
              <a:rPr b="0" lang="ar-IQ" sz="2800" spc="-1" strike="noStrike">
                <a:solidFill>
                  <a:srgbClr val="000000"/>
                </a:solidFill>
                <a:latin typeface="Calibri"/>
                <a:cs typeface="Times New Roman"/>
              </a:rPr>
              <a:t>التخطيط الصناعي</a:t>
            </a:r>
            <a:br>
              <a:rPr sz="2800"/>
            </a:br>
            <a:r>
              <a:rPr b="0" lang="ar-IQ" sz="2800" spc="-1" strike="noStrike">
                <a:solidFill>
                  <a:srgbClr val="000000"/>
                </a:solidFill>
                <a:latin typeface="Calibri"/>
                <a:cs typeface="Times New Roman"/>
              </a:rPr>
              <a:t>التنمية الاقليمية.</a:t>
            </a:r>
            <a:br>
              <a:rPr sz="2800"/>
            </a:br>
            <a:r>
              <a:rPr b="0" lang="ar-IQ" sz="2800" spc="-1" strike="noStrike">
                <a:solidFill>
                  <a:srgbClr val="000000"/>
                </a:solidFill>
                <a:latin typeface="Calibri"/>
                <a:cs typeface="Times New Roman"/>
              </a:rPr>
              <a:t>التنمية الصناعية.</a:t>
            </a:r>
            <a:br>
              <a:rPr sz="2800"/>
            </a:br>
            <a:r>
              <a:rPr b="0" lang="ar-IQ" sz="2800" spc="-1" strike="noStrike">
                <a:solidFill>
                  <a:srgbClr val="000000"/>
                </a:solidFill>
                <a:latin typeface="Calibri"/>
                <a:cs typeface="Times New Roman"/>
              </a:rPr>
              <a:t>ستراتيجيات التنمية الصناعية.</a:t>
            </a:r>
            <a:br>
              <a:rPr sz="2800"/>
            </a:br>
            <a:r>
              <a:rPr b="0" lang="ar-IQ" sz="2800" spc="-1" strike="noStrike">
                <a:solidFill>
                  <a:srgbClr val="000000"/>
                </a:solidFill>
                <a:latin typeface="Calibri"/>
                <a:ea typeface="Times New Roman"/>
              </a:rPr>
              <a:t>1</a:t>
            </a:r>
            <a:r>
              <a:rPr b="0" lang="ar-IQ" sz="2800" spc="-1" strike="noStrike">
                <a:solidFill>
                  <a:srgbClr val="000000"/>
                </a:solidFill>
                <a:latin typeface="Calibri"/>
                <a:ea typeface="Times New Roman"/>
              </a:rPr>
              <a:t>.ستراتيجية التصنيع الخفيف.</a:t>
            </a:r>
            <a:br>
              <a:rPr sz="2800"/>
            </a:br>
            <a:r>
              <a:rPr b="0" lang="ar-IQ" sz="2800" spc="-1" strike="noStrike">
                <a:solidFill>
                  <a:srgbClr val="000000"/>
                </a:solidFill>
                <a:latin typeface="Calibri"/>
                <a:ea typeface="Times New Roman"/>
              </a:rPr>
              <a:t>2</a:t>
            </a:r>
            <a:r>
              <a:rPr b="0" lang="ar-IQ" sz="2800" spc="-1" strike="noStrike">
                <a:solidFill>
                  <a:srgbClr val="000000"/>
                </a:solidFill>
                <a:latin typeface="Calibri"/>
                <a:ea typeface="Times New Roman"/>
              </a:rPr>
              <a:t>.ستراتيجية التصنيع الثقيل.</a:t>
            </a:r>
            <a:br>
              <a:rPr sz="2800"/>
            </a:br>
            <a:r>
              <a:rPr b="0" lang="ar-IQ" sz="2800" spc="-1" strike="noStrike">
                <a:solidFill>
                  <a:srgbClr val="000000"/>
                </a:solidFill>
                <a:latin typeface="Calibri"/>
                <a:ea typeface="Times New Roman"/>
              </a:rPr>
              <a:t>3</a:t>
            </a:r>
            <a:r>
              <a:rPr b="0" lang="ar-IQ" sz="2800" spc="-1" strike="noStrike">
                <a:solidFill>
                  <a:srgbClr val="000000"/>
                </a:solidFill>
                <a:latin typeface="Calibri"/>
                <a:ea typeface="Times New Roman"/>
              </a:rPr>
              <a:t>.ستراتيجية احلال الواردات.</a:t>
            </a:r>
            <a:br>
              <a:rPr sz="2800"/>
            </a:br>
            <a:r>
              <a:rPr b="0" lang="ar-IQ" sz="2800" spc="-1" strike="noStrike">
                <a:solidFill>
                  <a:srgbClr val="000000"/>
                </a:solidFill>
                <a:latin typeface="Calibri"/>
                <a:ea typeface="Times New Roman"/>
              </a:rPr>
              <a:t>4</a:t>
            </a:r>
            <a:r>
              <a:rPr b="0" lang="ar-IQ" sz="2800" spc="-1" strike="noStrike">
                <a:solidFill>
                  <a:srgbClr val="000000"/>
                </a:solidFill>
                <a:latin typeface="Calibri"/>
                <a:ea typeface="Times New Roman"/>
              </a:rPr>
              <a:t>.ستراتيجية التصنيع من اجل التصدي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6240" y="131400"/>
            <a:ext cx="8991720" cy="6659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اختيار الصناعات والتكنولوجية والمهارات:</a:t>
            </a:r>
            <a:br>
              <a:rPr sz="2000"/>
            </a:br>
            <a:br>
              <a:rPr sz="2000"/>
            </a:br>
            <a:r>
              <a:rPr b="0" lang="ar-IQ" sz="2000" spc="-1" strike="noStrike">
                <a:solidFill>
                  <a:srgbClr val="000000"/>
                </a:solidFill>
                <a:latin typeface="Calibri"/>
                <a:cs typeface="Times New Roman"/>
              </a:rPr>
              <a:t>وتتصل مسألة اختيار التكنلوجيا بأستراتيجية التنمية الاقتصادية في الدول فهناك علاقة بين صياغة الاهداف في خطة التنمية وصياغة استراتيجية التنميةالصناعية.ومن المهم ان تختار الدولة النامية استراتيجية التنمية الصناعية لتتمكن من الاستخدام الامثل للموارد الحاضرة والمستقبلية ويتضمن ذالك الحاجة الى التخطيط الدينامي طالما ان عملية التنمية ذاتها تتضمن تغيرات في مدى توافر بعض العناصر مثل راس المال والمهارات ويثير التطبيق التكنلوجي الحديث مشكلة كبرى  ومن ناحية اخرى  فان الدول النامية لاتمتلك القدرة الكافية على استحداث اساليب فنية بديلة او ادخال تغيرات على ماهو قائم فيها .ونضرآ لضخامة وحجم رأس المال والمهاراالضروريةلادخال التقدم التقني  في الميدان  الصناعي  فان هناك تركيزآ متزايدآ للبحث التكنلوجي  والتجديد في عدد قليل من الشركات والمؤسسات مملوكة للدولة والمر الذي يشكل قيدآ على اتاحة تقنيات بديلة في الدول النامية. وازاء هذه المشاكل التي تم عرضهايمكن القول :</a:t>
            </a:r>
            <a:br>
              <a:rPr sz="2000"/>
            </a:b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لابد من تحسين الاساليب الاحصائية وتتدقيقها والسعي من اجل وعي علمي احصائي.</a:t>
            </a:r>
            <a:br>
              <a:rPr sz="2000"/>
            </a:b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انشاء مكاتب او منشآت استشارية يمكن ان تدعمها برامج الامم المتحدة اليونيدو والمنظمة العربية للتنمية الصناعية.</a:t>
            </a:r>
            <a:br>
              <a:rPr sz="2000"/>
            </a:b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توضيح وتطوير الاساليب الفنية ومنهج تحديد فرص الاستثمار ودراسات الجدوى وتقيم المشروعات وبرمجة معايرر الكفاءة في تشغيل المشروعات.</a:t>
            </a:r>
            <a:br>
              <a:rPr sz="2000"/>
            </a:br>
            <a:r>
              <a:rPr b="0" lang="ar-IQ" sz="2000" spc="-1" strike="noStrike">
                <a:solidFill>
                  <a:srgbClr val="000000"/>
                </a:solidFill>
                <a:latin typeface="Calibri"/>
                <a:ea typeface="Times New Roman"/>
              </a:rPr>
              <a:t>4</a:t>
            </a:r>
            <a:r>
              <a:rPr b="0" lang="ar-IQ" sz="2000" spc="-1" strike="noStrike">
                <a:solidFill>
                  <a:srgbClr val="000000"/>
                </a:solidFill>
                <a:latin typeface="Calibri"/>
                <a:ea typeface="Times New Roman"/>
              </a:rPr>
              <a:t>.ايفاد خبراء للمعونه  لمساعدة الدول النامية في تخطيط المشروعات.</a:t>
            </a:r>
            <a:br>
              <a:rPr sz="2000"/>
            </a:br>
            <a:r>
              <a:rPr b="0" lang="ar-IQ" sz="2000" spc="-1" strike="noStrike">
                <a:solidFill>
                  <a:srgbClr val="000000"/>
                </a:solidFill>
                <a:latin typeface="Calibri"/>
                <a:ea typeface="Times New Roman"/>
              </a:rPr>
              <a:t>5</a:t>
            </a:r>
            <a:r>
              <a:rPr b="0" lang="ar-IQ" sz="2000" spc="-1" strike="noStrike">
                <a:solidFill>
                  <a:srgbClr val="000000"/>
                </a:solidFill>
                <a:latin typeface="Calibri"/>
                <a:ea typeface="Times New Roman"/>
              </a:rPr>
              <a:t>.تنظيم دراسات تدريبية في مجال صياغة المشروع  وتقويمه وبرمجة التنفيذ ونظم المتابعة وتحديد معايير قياس الكفاء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6240" y="85320"/>
            <a:ext cx="8991720" cy="6553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IQ" sz="2000" spc="-1" strike="noStrike">
                <a:solidFill>
                  <a:srgbClr val="000000"/>
                </a:solidFill>
                <a:latin typeface="Calibri"/>
                <a:cs typeface="Times New Roman"/>
              </a:rPr>
              <a:t>التنمية الاقليمية.</a:t>
            </a:r>
            <a:br>
              <a:rPr sz="2000"/>
            </a:br>
            <a:br>
              <a:rPr sz="2000"/>
            </a:br>
            <a:r>
              <a:rPr b="0" lang="ar-IQ" sz="2000" spc="-1" strike="noStrike">
                <a:solidFill>
                  <a:srgbClr val="000000"/>
                </a:solidFill>
                <a:latin typeface="Calibri"/>
                <a:cs typeface="Times New Roman"/>
              </a:rPr>
              <a:t>يعني مصطلح التنمية: تغير الاحوال نحو الافضل لابطريقة ارادية بل بوسائل وأجراءات مخطط لها سلفآ وبوضعها موضع التطبيق,وتهدف بعمومها الى اصلاح الواقع القائم نحو الافضل سواء احداث ذالك في مجال آو اخر من مجالات الحياة الانسانية المختلفة.</a:t>
            </a:r>
            <a:br>
              <a:rPr sz="2000"/>
            </a:br>
            <a:r>
              <a:rPr b="0" lang="ar-IQ" sz="2000" spc="-1" strike="noStrike">
                <a:solidFill>
                  <a:srgbClr val="000000"/>
                </a:solidFill>
                <a:latin typeface="Calibri"/>
                <a:cs typeface="Times New Roman"/>
              </a:rPr>
              <a:t>فالاقتصادي قد يعبر عن التنمية بأستغلال افضل للموارد الاقتصادية وزيادة الدخل القومي.</a:t>
            </a:r>
            <a:br>
              <a:rPr sz="2000"/>
            </a:br>
            <a:br>
              <a:rPr sz="2000"/>
            </a:br>
            <a:r>
              <a:rPr b="0" lang="en-US" sz="2000" spc="-1" strike="noStrike">
                <a:solidFill>
                  <a:srgbClr val="000000"/>
                </a:solidFill>
                <a:latin typeface="Calibri"/>
              </a:rPr>
              <a:t>Regional Development</a:t>
            </a:r>
            <a:r>
              <a:rPr b="0" lang="ar-IQ" sz="2000" spc="-1" strike="noStrike">
                <a:solidFill>
                  <a:srgbClr val="000000"/>
                </a:solidFill>
                <a:latin typeface="Calibri"/>
                <a:cs typeface="Times New Roman"/>
              </a:rPr>
              <a:t>التنمية الاقليمية </a:t>
            </a:r>
            <a:br>
              <a:rPr sz="2000"/>
            </a:br>
            <a:r>
              <a:rPr b="0" lang="ar-IQ" sz="2000" spc="-1" strike="noStrike">
                <a:solidFill>
                  <a:srgbClr val="000000"/>
                </a:solidFill>
                <a:latin typeface="Calibri"/>
                <a:ea typeface="Times New Roman"/>
              </a:rPr>
              <a:t> </a:t>
            </a:r>
            <a:br>
              <a:rPr sz="2000"/>
            </a:br>
            <a:r>
              <a:rPr b="0" lang="ar-IQ" sz="2000" spc="-1" strike="noStrike">
                <a:solidFill>
                  <a:srgbClr val="000000"/>
                </a:solidFill>
                <a:latin typeface="Calibri"/>
                <a:cs typeface="Times New Roman"/>
              </a:rPr>
              <a:t>تعرف التنمية الاقليمية بأنها شكل من اشكال التخطيط تعتمد الآقليم كوحدة اساسية,ومع ان مفهوم الاقليم واسع ويسمح بتباين ما في وجهات النظر حول تعريفه, الا ان قدرآ مقبولا من الاتفاق في الاراء حاصل حول مضمونه في الاقل,فالاقليم الجغرافي جزء من سطح الارض تبرز فيه خاصية جغرافية او اكثر وتقرمساحته وشكله وخصائصه في ضوء انتشار وتوزيع تلك الخاصية الجغرافية.</a:t>
            </a:r>
            <a:br>
              <a:rPr sz="2000"/>
            </a:br>
            <a:br>
              <a:rPr sz="2000"/>
            </a:br>
            <a:r>
              <a:rPr b="0" lang="ar-IQ" sz="2000" spc="-1" strike="noStrike">
                <a:solidFill>
                  <a:srgbClr val="000000"/>
                </a:solidFill>
                <a:latin typeface="Calibri"/>
                <a:cs typeface="Times New Roman"/>
              </a:rPr>
              <a:t>فالتنمية الإقليمية:</a:t>
            </a:r>
            <a:br>
              <a:rPr sz="2000"/>
            </a:br>
            <a:r>
              <a:rPr b="0" lang="ar-IQ" sz="2000" spc="-1" strike="noStrike">
                <a:solidFill>
                  <a:srgbClr val="000000"/>
                </a:solidFill>
                <a:latin typeface="Calibri"/>
                <a:cs typeface="Times New Roman"/>
              </a:rPr>
              <a:t>هي حصيلة الجمع بين الجغرافية والتخطيط في حيز ارضي قوامه الاقليم التخطيطي فهي بهذا رديف للتنمية الصناعية والفرق بينهما ان التنمية الصناعية تؤكد على النشاط الصناعي في حين التنمية الاقليمية تؤكد على الحيز الجغرافي بعناصره الطبيعية والبشرية وتفاعل تلك العناصر مع المكان في الاقليم.</a:t>
            </a:r>
            <a:br>
              <a:rPr sz="2000"/>
            </a:br>
            <a:r>
              <a:rPr b="0" lang="ar-IQ" sz="2000" spc="-1" strike="noStrike">
                <a:solidFill>
                  <a:srgbClr val="000000"/>
                </a:solidFill>
                <a:latin typeface="Calibri"/>
                <a:cs typeface="Times New Roman"/>
              </a:rPr>
              <a:t>ومن جه اخرى يتضح تقارب مفهوم التنمية الاقليمية مع التخطيط الاقليمي في المضمون فكلاهما يتخذ الاقليم مكانآ وتطوير الحالة فيه هدفآ.</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84240"/>
            <a:ext cx="8962920" cy="6573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هداف التنمية الاقليمية:--</a:t>
            </a:r>
            <a:br>
              <a:rPr sz="2000"/>
            </a:br>
            <a:br>
              <a:rPr sz="2000"/>
            </a:br>
            <a:r>
              <a:rPr b="0" lang="ar-IQ" sz="2000" spc="-1" strike="noStrike">
                <a:solidFill>
                  <a:srgbClr val="000000"/>
                </a:solidFill>
                <a:latin typeface="Calibri"/>
                <a:cs typeface="Times New Roman"/>
              </a:rPr>
              <a:t>تهدف التنمية الاقليمية الى تحقيق مايأتي.....</a:t>
            </a:r>
            <a:br>
              <a:rPr sz="2000"/>
            </a:br>
            <a:r>
              <a:rPr b="0" lang="ar-IQ" sz="2000" spc="-1" strike="noStrike">
                <a:solidFill>
                  <a:srgbClr val="000000"/>
                </a:solidFill>
                <a:latin typeface="Calibri"/>
                <a:cs typeface="Times New Roman"/>
              </a:rPr>
              <a:t>اولآ: زيادة القدرات الانتاجية وثم زيادة الناتج المحلي وتحسين مستوى الدحل الفردي من خلال اقامة مشاريع اقتصادية جديدة في مقدمتها مشاريع صناعية.</a:t>
            </a:r>
            <a:br>
              <a:rPr sz="2000"/>
            </a:br>
            <a:r>
              <a:rPr b="0" lang="ar-IQ" sz="2000" spc="-1" strike="noStrike">
                <a:solidFill>
                  <a:srgbClr val="000000"/>
                </a:solidFill>
                <a:latin typeface="Calibri"/>
                <a:cs typeface="Times New Roman"/>
              </a:rPr>
              <a:t>ثانيآ: احداث هجرة معاكسة او على الاقل ايقاف او الابطاء من حدة الهجرة والعمل على استقرار سكاني في اقاليم الحاجة تنعكس ايجابيآ على اجمالي حالة السكان في البلد.</a:t>
            </a:r>
            <a:br>
              <a:rPr sz="2000"/>
            </a:br>
            <a:r>
              <a:rPr b="0" lang="ar-IQ" sz="2000" spc="-1" strike="noStrike">
                <a:solidFill>
                  <a:srgbClr val="000000"/>
                </a:solidFill>
                <a:latin typeface="Calibri"/>
                <a:cs typeface="Times New Roman"/>
              </a:rPr>
              <a:t>ثالثآ: خفض معدلات البطالة وايجاد فرص عمل في قطاعات مختلفه.</a:t>
            </a:r>
            <a:br>
              <a:rPr sz="2000"/>
            </a:br>
            <a:r>
              <a:rPr b="0" lang="ar-IQ" sz="2000" spc="-1" strike="noStrike">
                <a:solidFill>
                  <a:srgbClr val="000000"/>
                </a:solidFill>
                <a:latin typeface="Calibri"/>
                <a:cs typeface="Times New Roman"/>
              </a:rPr>
              <a:t>رابعآ: رفع وتيرة مستوى التحضر في اقاليم الحاجة سواء من خلال هيكل الاستيطان الحضري او هيكل القوى العاملة او تطوير مستوى التعليم.</a:t>
            </a:r>
            <a:br>
              <a:rPr sz="2000"/>
            </a:br>
            <a:r>
              <a:rPr b="0" lang="ar-IQ" sz="2000" spc="-1" strike="noStrike">
                <a:solidFill>
                  <a:srgbClr val="000000"/>
                </a:solidFill>
                <a:latin typeface="Calibri"/>
                <a:cs typeface="Times New Roman"/>
              </a:rPr>
              <a:t>خامسآ: تحقيق قدر افضلمن الاستقرار السياسي والاجتماعي والاقتصادي في اقاليم البلد عام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95400" y="74520"/>
            <a:ext cx="8934480" cy="6602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شروط نجاح التنمية الاقليمية:-</a:t>
            </a:r>
            <a:br>
              <a:rPr sz="2000"/>
            </a:br>
            <a:br>
              <a:rPr sz="2000"/>
            </a:br>
            <a:r>
              <a:rPr b="0" lang="ar-IQ" sz="2000" spc="-1" strike="noStrike">
                <a:solidFill>
                  <a:srgbClr val="000000"/>
                </a:solidFill>
                <a:latin typeface="Calibri"/>
                <a:cs typeface="Times New Roman"/>
              </a:rPr>
              <a:t>من اجل ضمان نجاح التنمية الاقليمية وأنجازها قدرآجيدآ من الفاعلية لابد لها ان تتضمن وتراعي الجوانب الاتيه....</a:t>
            </a:r>
            <a:br>
              <a:rPr sz="2000"/>
            </a:br>
            <a:r>
              <a:rPr b="0" lang="ar-IQ" sz="2000" spc="-1" strike="noStrike">
                <a:solidFill>
                  <a:srgbClr val="000000"/>
                </a:solidFill>
                <a:latin typeface="Calibri"/>
                <a:cs typeface="Times New Roman"/>
              </a:rPr>
              <a:t>اولآ: اختيار فروع الصناعة المناسبة  للاقليم والتي يتوفر لها تنوع ومقدار وافر من المدخلات المحلية وضمان </a:t>
            </a:r>
            <a:br>
              <a:rPr sz="2000"/>
            </a:br>
            <a:r>
              <a:rPr b="0" lang="ar-IQ" sz="2000" spc="-1" strike="noStrike">
                <a:solidFill>
                  <a:srgbClr val="000000"/>
                </a:solidFill>
                <a:latin typeface="Calibri"/>
                <a:cs typeface="Times New Roman"/>
              </a:rPr>
              <a:t>الاختيار المناسب لمواقعها.</a:t>
            </a:r>
            <a:br>
              <a:rPr sz="2000"/>
            </a:br>
            <a:r>
              <a:rPr b="0" lang="ar-IQ" sz="2000" spc="-1" strike="noStrike">
                <a:solidFill>
                  <a:srgbClr val="000000"/>
                </a:solidFill>
                <a:latin typeface="Calibri"/>
                <a:cs typeface="Times New Roman"/>
              </a:rPr>
              <a:t>ثانيآ: لايقتصر انتاج هذه الصناعات على سد حاجة السكان المحليين وأنما توفير فائض للتصدير الى اقاليم اخرى او للخارج</a:t>
            </a:r>
            <a:br>
              <a:rPr sz="2000"/>
            </a:br>
            <a:r>
              <a:rPr b="0" lang="ar-IQ" sz="2000" spc="-1" strike="noStrike">
                <a:solidFill>
                  <a:srgbClr val="000000"/>
                </a:solidFill>
                <a:latin typeface="Calibri"/>
                <a:cs typeface="Times New Roman"/>
              </a:rPr>
              <a:t>ثالثآ: عدم اغفال دو القطاعات المختلفة في عملية التنمية مثل الزراعة والصحة والتعليم والبنى الارتكازية فهذه لابد من تتطورها الى مستوى تتوافق مع بعضها.</a:t>
            </a:r>
            <a:br>
              <a:rPr sz="2000"/>
            </a:br>
            <a:r>
              <a:rPr b="0" lang="ar-IQ" sz="2000" spc="-1" strike="noStrike">
                <a:solidFill>
                  <a:srgbClr val="000000"/>
                </a:solidFill>
                <a:latin typeface="Calibri"/>
                <a:cs typeface="Times New Roman"/>
              </a:rPr>
              <a:t>رابعآ: ضرورة زيادة قدرة التشابك والترابط بين القطاعات الاقتصادية بتوجيه النشاط الصناعي لخدمة هذه القطاعات وللافادة منها بتوفير المعدات والاجهزة التي تحتاجها هذه القطاعات وفي نفس الوقت استثمار ماتقدمه من مدخلات وتسهيلات.</a:t>
            </a:r>
            <a:br>
              <a:rPr sz="2000"/>
            </a:br>
            <a:r>
              <a:rPr b="0" lang="ar-IQ" sz="2000" spc="-1" strike="noStrike">
                <a:solidFill>
                  <a:srgbClr val="000000"/>
                </a:solidFill>
                <a:latin typeface="Calibri"/>
                <a:cs typeface="Times New Roman"/>
              </a:rPr>
              <a:t>خامسآ: ضمان مشاركة السكان المحليين, واستيعاب تطلعاتهم في عملية التنمية وفي جميع مراحلها بدءآ من التخطيط وحتى التنفيذ.</a:t>
            </a:r>
            <a:br>
              <a:rPr sz="2000"/>
            </a:br>
            <a:r>
              <a:rPr b="0" lang="ar-IQ" sz="2000" spc="-1" strike="noStrike">
                <a:solidFill>
                  <a:srgbClr val="000000"/>
                </a:solidFill>
                <a:latin typeface="Calibri"/>
                <a:cs typeface="Times New Roman"/>
              </a:rPr>
              <a:t>سادسآ: تهيئة الكوادر وأستثمارالمتاح منها وقدراتها وهذا ينطبق على مستوى المؤسسات المعنية بالتنمية ايضآ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14120" y="74160"/>
            <a:ext cx="8934120" cy="6573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سابعآ: يتطلب نجاح التنمية الاقليمية اصدار تشريعات وقوانين تتناسب وتتنسق مع جهود التنمية وتخدمها وتيسر تنفيذ برامجها.</a:t>
            </a:r>
            <a:br>
              <a:rPr sz="2000"/>
            </a:br>
            <a:r>
              <a:rPr b="0" lang="ar-IQ" sz="2000" spc="-1" strike="noStrike">
                <a:solidFill>
                  <a:srgbClr val="000000"/>
                </a:solidFill>
                <a:latin typeface="Calibri"/>
                <a:cs typeface="Times New Roman"/>
              </a:rPr>
              <a:t>ثامنآ: التطابق بين الخطط الاقليمية والخطة القومية,فالخطة القومية تقسم او تشتق منهاخطط تنمية الاقاليم.</a:t>
            </a:r>
            <a:br>
              <a:rPr sz="2000"/>
            </a:br>
            <a:r>
              <a:rPr b="0" lang="ar-IQ" sz="2000" spc="-1" strike="noStrike">
                <a:solidFill>
                  <a:srgbClr val="000000"/>
                </a:solidFill>
                <a:latin typeface="Calibri"/>
                <a:cs typeface="Times New Roman"/>
              </a:rPr>
              <a:t>تاسعآ: استيعاب المشاكل وتحديد الاهداف على المستوى القومي والاقليمي ووضع خطط لأبعاد زمنية مختلفة لمعالجة المشاكل.</a:t>
            </a:r>
            <a:br>
              <a:rPr sz="2000"/>
            </a:br>
            <a:r>
              <a:rPr b="0" lang="ar-IQ" sz="2000" spc="-1" strike="noStrike">
                <a:solidFill>
                  <a:srgbClr val="000000"/>
                </a:solidFill>
                <a:latin typeface="Calibri"/>
                <a:cs typeface="Times New Roman"/>
              </a:rPr>
              <a:t>ان التنمية الاقليمية لا تعني ازالة الفوارق بين اقليم البلد ومساواتها لان هذه مهمه عسيرة وقد تكون صعبة المنال انما تعني تقليل حدة تلك الفوراق بزيادة فعالية ونشاط الاقاليم المختلفة الى اقصى درجة ممكنه بالاستثمار الفعال والكفوء للامكانات المتاحة في اقاليم الحاجة طبيعيةكانت ام سكانية او اقتصادية,ان التوازن لايحصل بأيقاف عملية التنمية في اقاليم الغنى ولكن ربما يكبح جمحها مقابل تسريع خطى التنمية في اقاليم الحاجة.</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5960" y="93600"/>
            <a:ext cx="8972280" cy="6678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ستراتيجيات التنمية الاقليمية</a:t>
            </a:r>
            <a:br>
              <a:rPr sz="2000"/>
            </a:br>
            <a:r>
              <a:rPr b="0" lang="ar-IQ" sz="2000" spc="-1" strike="noStrike">
                <a:solidFill>
                  <a:srgbClr val="000000"/>
                </a:solidFill>
                <a:latin typeface="Calibri"/>
              </a:rPr>
              <a:t>وهي مجموعة من الاهداف التي تحدد لانجازها خلال مرحلة زمنية معينة في مجال مكاني معين, والمرحلة هذه قد تكون قريبة او متوسطة او بعيدة فيما يمكن ان يكون الحيز المكاني محليآاو اقليميآ او وطنيآ.وهناك شبه اجماع </a:t>
            </a:r>
            <a:br>
              <a:rPr sz="2000"/>
            </a:br>
            <a:r>
              <a:rPr b="0" lang="ar-IQ" sz="2000" spc="-1" strike="noStrike">
                <a:solidFill>
                  <a:srgbClr val="000000"/>
                </a:solidFill>
                <a:latin typeface="Calibri"/>
              </a:rPr>
              <a:t>تقسيم الستراتيجيات الى:-</a:t>
            </a:r>
            <a:br>
              <a:rPr sz="2000"/>
            </a:br>
            <a:br>
              <a:rPr sz="2000"/>
            </a:br>
            <a:r>
              <a:rPr b="0" lang="ar-IQ" sz="2000" spc="-1" strike="noStrike">
                <a:solidFill>
                  <a:srgbClr val="000000"/>
                </a:solidFill>
                <a:latin typeface="Calibri"/>
              </a:rPr>
              <a:t>اولآ:ستراتيجية التنمية المتوازنة.</a:t>
            </a:r>
            <a:br>
              <a:rPr sz="2000"/>
            </a:br>
            <a:r>
              <a:rPr b="0" lang="ar-IQ" sz="2000" spc="-1" strike="noStrike">
                <a:solidFill>
                  <a:srgbClr val="000000"/>
                </a:solidFill>
                <a:latin typeface="Calibri"/>
              </a:rPr>
              <a:t>وبهداها توزع الاسثمارات وخاصة منها مكانيآ بين الاقاليم بشكل اقرب الى تحقيق مبدأ العدالة في التوزيع,دون اخر بهدف تقليل الفوارق الاقليمية في مستويات التطور الاقتصادي والاجتماعي والعمراني,وفي مستويات الدخول سواء بين اجزاء الاقليم الواحد او بين اقاليم البلد الواحد.</a:t>
            </a:r>
            <a:br>
              <a:rPr sz="2000"/>
            </a:br>
            <a:r>
              <a:rPr b="0" lang="ar-IQ" sz="2000" spc="-1" strike="noStrike">
                <a:solidFill>
                  <a:srgbClr val="000000"/>
                </a:solidFill>
                <a:latin typeface="Calibri"/>
              </a:rPr>
              <a:t>وقد يعبر عن هذه النظرية باصطلاح الدفعة الكبيرة </a:t>
            </a:r>
            <a:r>
              <a:rPr b="0" lang="en-US" sz="2000" spc="-1" strike="noStrike">
                <a:solidFill>
                  <a:srgbClr val="000000"/>
                </a:solidFill>
                <a:latin typeface="Calibri"/>
              </a:rPr>
              <a:t>Big pus</a:t>
            </a:r>
            <a:r>
              <a:rPr b="0" lang="ar-IQ" sz="2000" spc="-1" strike="noStrike">
                <a:solidFill>
                  <a:srgbClr val="000000"/>
                </a:solidFill>
                <a:latin typeface="Calibri"/>
              </a:rPr>
              <a:t>وكما اسماها </a:t>
            </a:r>
            <a:r>
              <a:rPr b="0" lang="en-US" sz="2000" spc="-1" strike="noStrike">
                <a:solidFill>
                  <a:srgbClr val="000000"/>
                </a:solidFill>
                <a:latin typeface="Calibri"/>
              </a:rPr>
              <a:t>Roden</a:t>
            </a:r>
            <a:r>
              <a:rPr b="0" lang="ar-IQ" sz="2000" spc="-1" strike="noStrike">
                <a:solidFill>
                  <a:srgbClr val="000000"/>
                </a:solidFill>
                <a:latin typeface="Calibri"/>
              </a:rPr>
              <a:t>عام </a:t>
            </a:r>
            <a:r>
              <a:rPr b="0" lang="ar-IQ" sz="2000" spc="-1" strike="noStrike">
                <a:solidFill>
                  <a:srgbClr val="000000"/>
                </a:solidFill>
                <a:latin typeface="Calibri"/>
              </a:rPr>
              <a:t>1943</a:t>
            </a:r>
            <a:r>
              <a:rPr b="0" lang="ar-IQ" sz="2000" spc="-1" strike="noStrike">
                <a:solidFill>
                  <a:srgbClr val="000000"/>
                </a:solidFill>
                <a:latin typeface="Calibri"/>
              </a:rPr>
              <a:t>لانها لابد</a:t>
            </a:r>
            <a:br>
              <a:rPr sz="2000"/>
            </a:br>
            <a:r>
              <a:rPr b="0" lang="ar-IQ" sz="2000" spc="-1" strike="noStrike">
                <a:solidFill>
                  <a:srgbClr val="000000"/>
                </a:solidFill>
                <a:latin typeface="Calibri"/>
              </a:rPr>
              <a:t>ان تكون على شكل استثمارات صناعية ضخمة لضمان نجاحها في تجاوز العقبات الاقتصادية.ان ضخ استثمارات ضخمة في مناطق غير مهيأة لها اصلا يرفع من كلفة الاستثمار ويخفض من مردوداته الاقتصادية على المدى القصير.فلابد من تخصيص مبالغ كبيرة من هذه الاستثمارات لتطويرالبنى الارتكازية وتهيئة الارضية لاستيعاب عمليات اقتصادية كبيرة.</a:t>
            </a:r>
            <a:br>
              <a:rPr sz="2000"/>
            </a:br>
            <a:r>
              <a:rPr b="0" lang="ar-IQ" sz="2000" spc="-1" strike="noStrike">
                <a:solidFill>
                  <a:srgbClr val="000000"/>
                </a:solidFill>
                <a:latin typeface="Calibri"/>
              </a:rPr>
              <a:t>تعتمد التنمية الاقليمية المتوازنة على ستراتيجية توجيه او نقل الاستثمارات الحكوميه او الخاصة نحو المناطق الفقيرة التي تتصف بقلة الضغط على الموارد فيها وبكونها اقاليم طاردة للسكان, ان من شأن تشجيع المستثمرين الجدد نحو الاقليم الفقيرة توفير فرص عمل جديدة ورفع مستويات الدخول والنشاط, مايمثل منفعة اقتصادية,اما المنافع الاجتماعية فتتمثل بتقليص معدلات الهجرة وخفض معدلات البطالة وتحسين الحياة الاجتماعية فضلآعن التطور المتوقع في مجالات التدريب والتأهيل في السكن والتحضر وفي نمط الحياة العام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04760" y="102960"/>
            <a:ext cx="8925120" cy="6669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بالرغم من الجوانب الايجابية لهذه الستراتيجية الا ان هناك بعض المآخذ عليها من بينها تدني الكفائة الانتاجية للعاملين في المناطق الفقيرة التي تتصف بقلة مهاراتها قياسآ بالعاملين في الاقاليم المتطورة.ومنها ايضآ تحديد المواقع الصناعية مما يسبب خللآ في العائد الاقتصادي لعملية التنمية كماان رأس المال المستثمر غالبآ ما يآتي من خارج المنطقة,وقد تعود عوائد الاسثمار ثانية خارج الاقليم فيكون تآثسر التنمية محدودآ داخله.</a:t>
            </a:r>
            <a:br>
              <a:rPr sz="2000"/>
            </a:br>
            <a:br>
              <a:rPr sz="2000"/>
            </a:br>
            <a:r>
              <a:rPr b="0" lang="ar-IQ" sz="2000" spc="-1" strike="noStrike">
                <a:solidFill>
                  <a:srgbClr val="000000"/>
                </a:solidFill>
                <a:latin typeface="Calibri"/>
              </a:rPr>
              <a:t>ثانيآ:-ستراتيجية التنمية الاقليمية غير المتوازنة</a:t>
            </a:r>
            <a:br>
              <a:rPr sz="2000"/>
            </a:br>
            <a:r>
              <a:rPr b="0" lang="ar-IQ" sz="2000" spc="-1" strike="noStrike">
                <a:solidFill>
                  <a:srgbClr val="000000"/>
                </a:solidFill>
                <a:latin typeface="Calibri"/>
              </a:rPr>
              <a:t>تتجه ستراتيجية التنمية الاقليمية غير المتوازنة الى تركيز الاستثمارات في مناطق محددة بدلآ من توزيعها مكانيآ على مناطق واسعة.ولهذا الغرض تختار مراكز نمو إما ان تكون طبيعية اي موجودة وقائمة فعلا او يتم انشائها لهذا الغرض فتعد نقاط نمو اصطناعية بتوفير مستلزمات النمو من بنى ارتكازية وخدمات تتطلبها عملية التنمية المنشودة.</a:t>
            </a:r>
            <a:br>
              <a:rPr sz="2000"/>
            </a:br>
            <a:r>
              <a:rPr b="0" lang="ar-IQ" sz="2000" spc="-1" strike="noStrike">
                <a:solidFill>
                  <a:srgbClr val="000000"/>
                </a:solidFill>
                <a:latin typeface="Calibri"/>
              </a:rPr>
              <a:t>وتهتدي هذه الستراتيجة بنظرية اقطاب النمو</a:t>
            </a:r>
            <a:r>
              <a:rPr b="0" lang="en-US" sz="2000" spc="-1" strike="noStrike">
                <a:solidFill>
                  <a:srgbClr val="000000"/>
                </a:solidFill>
                <a:latin typeface="Calibri"/>
              </a:rPr>
              <a:t> </a:t>
            </a:r>
            <a:r>
              <a:rPr b="0" lang="en-US" sz="2000" spc="-1" strike="noStrike">
                <a:solidFill>
                  <a:srgbClr val="000000"/>
                </a:solidFill>
                <a:latin typeface="Calibri"/>
              </a:rPr>
              <a:t>Growth pole Theor</a:t>
            </a:r>
            <a:r>
              <a:rPr b="0" lang="en-US" sz="2000" spc="-1" strike="noStrike">
                <a:solidFill>
                  <a:srgbClr val="000000"/>
                </a:solidFill>
                <a:latin typeface="Calibri"/>
              </a:rPr>
              <a:t> </a:t>
            </a:r>
            <a:r>
              <a:rPr b="0" lang="ar-IQ" sz="2000" spc="-1" strike="noStrike">
                <a:solidFill>
                  <a:srgbClr val="000000"/>
                </a:solidFill>
                <a:latin typeface="Calibri"/>
              </a:rPr>
              <a:t>التي جاء بها الفرنسي </a:t>
            </a:r>
            <a:r>
              <a:rPr b="0" lang="en-US" sz="2000" spc="-1" strike="noStrike">
                <a:solidFill>
                  <a:srgbClr val="000000"/>
                </a:solidFill>
                <a:latin typeface="Calibri"/>
              </a:rPr>
              <a:t>1950</a:t>
            </a:r>
            <a:r>
              <a:rPr b="0" lang="en-US" sz="2000" spc="-1" strike="noStrike">
                <a:solidFill>
                  <a:srgbClr val="000000"/>
                </a:solidFill>
                <a:latin typeface="Calibri"/>
              </a:rPr>
              <a:t> </a:t>
            </a:r>
            <a:r>
              <a:rPr b="0" lang="en-US" sz="2000" spc="-1" strike="noStrike">
                <a:solidFill>
                  <a:srgbClr val="000000"/>
                </a:solidFill>
                <a:latin typeface="Calibri"/>
              </a:rPr>
              <a:t>Peroux</a:t>
            </a:r>
            <a:br>
              <a:rPr sz="2000"/>
            </a:br>
            <a:r>
              <a:rPr b="0" lang="ar-IQ" sz="2000" spc="-1" strike="noStrike">
                <a:solidFill>
                  <a:srgbClr val="000000"/>
                </a:solidFill>
                <a:latin typeface="Calibri"/>
              </a:rPr>
              <a:t>الذي اعتقد بأن النمو لايمكن ان يظهر في كل مكان بمنطقة معينه وبوقت واحد بل يظهر في</a:t>
            </a:r>
            <a:br>
              <a:rPr sz="2000"/>
            </a:br>
            <a:r>
              <a:rPr b="0" lang="ar-IQ" sz="2000" spc="-1" strike="noStrike">
                <a:solidFill>
                  <a:srgbClr val="000000"/>
                </a:solidFill>
                <a:latin typeface="Calibri"/>
              </a:rPr>
              <a:t>نقاط واقطاب تنمية وبكثافات مختلفه وتتباين في انتشارها وتأثيراتها على الحالة الاقتصادية في المنطقة او الاقليم.</a:t>
            </a:r>
            <a:br>
              <a:rPr sz="2000"/>
            </a:br>
            <a:r>
              <a:rPr b="0" lang="ar-IQ" sz="2000" spc="-1" strike="noStrike">
                <a:solidFill>
                  <a:srgbClr val="000000"/>
                </a:solidFill>
                <a:latin typeface="Calibri"/>
              </a:rPr>
              <a:t>يمكن في ضوء هذه الستراتيجية تحديد ثلاثة جوانب تنموية اساسية لها مضامين اقتصادية من جهة وببعد جغرافي مكاني من جهة اخرى.وهي:-</a:t>
            </a:r>
            <a:r>
              <a:rPr b="0" lang="ar-IQ" sz="2000" spc="-1" strike="noStrike">
                <a:solidFill>
                  <a:srgbClr val="000000"/>
                </a:solidFill>
                <a:latin typeface="Calibri"/>
              </a:rPr>
              <a:t>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04760" y="159840"/>
            <a:ext cx="8848800" cy="66214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اولآ:الاثر القيادي للصناعة على اقتصاد الاقليم بتأثبررؤس الاموال الكبيرة التي تستثمر في الصناعة وبما تحدثه من خلق فرص عمل واسعة  والطلب على مدخلات الصناعة واقتصادية اخرى.</a:t>
            </a:r>
            <a:br>
              <a:rPr sz="2000"/>
            </a:br>
            <a:r>
              <a:rPr b="0" lang="ar-IQ" sz="2000" spc="-1" strike="noStrike">
                <a:solidFill>
                  <a:srgbClr val="000000"/>
                </a:solidFill>
                <a:latin typeface="Calibri"/>
              </a:rPr>
              <a:t>ثانيآ:اثر الصناعة في استقطاب الكثير من الانشطة الاقتصادية الاخرى سواء من داخل الاقليم او خارجه.</a:t>
            </a:r>
            <a:br>
              <a:rPr sz="2000"/>
            </a:br>
            <a:r>
              <a:rPr b="0" lang="ar-IQ" sz="2000" spc="-1" strike="noStrike">
                <a:solidFill>
                  <a:srgbClr val="000000"/>
                </a:solidFill>
                <a:latin typeface="Calibri"/>
              </a:rPr>
              <a:t>ثالثآ:اثر الصناعة الكبير في نشر تأثيراتها الاجتماعية والخدمية على مستوى اجزاء منطقه والمناطق الاخرى المحيطة بمكان توقيعها.</a:t>
            </a:r>
            <a:br>
              <a:rPr sz="2000"/>
            </a:br>
            <a:r>
              <a:rPr b="0" lang="ar-IQ" sz="2000" spc="-1" strike="noStrike">
                <a:solidFill>
                  <a:srgbClr val="000000"/>
                </a:solidFill>
                <a:latin typeface="Calibri"/>
              </a:rPr>
              <a:t>وعليه فأن عملية التنمية تتحقق بفعل الاستقطاب من جهه وقوة الانتشارمن جهه اخرى التي تحدثها الصناعة في محيطها.</a:t>
            </a:r>
            <a:br>
              <a:rPr sz="2000"/>
            </a:br>
            <a:r>
              <a:rPr b="0" lang="ar-IQ" sz="2000" spc="-1" strike="noStrike">
                <a:solidFill>
                  <a:srgbClr val="000000"/>
                </a:solidFill>
                <a:latin typeface="Calibri"/>
              </a:rPr>
              <a:t>اي ان الصناعة تجذب رؤس الاموال وقوى العمل وعوامل انتاج اخرى وتكتلها في مراكز النمو وينتج عن تفاعلها وفورات اقتصادية تبدأ بالانتشار بعد مدة وبشكل تدريجي على المحيط المجاور وتتمثل بثمار التنمية  الاقتصادية اولآ ثم الاجتماعية والحضاري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6240" y="84240"/>
            <a:ext cx="9001080" cy="6697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لتنمية الصناعية</a:t>
            </a:r>
            <a:r>
              <a:rPr b="0" lang="en-US" sz="2000" spc="-1" strike="noStrike">
                <a:solidFill>
                  <a:srgbClr val="000000"/>
                </a:solidFill>
                <a:latin typeface="Calibri"/>
              </a:rPr>
              <a:t> </a:t>
            </a:r>
            <a:r>
              <a:rPr b="0" lang="en-US" sz="2000" spc="-1" strike="noStrike">
                <a:solidFill>
                  <a:srgbClr val="000000"/>
                </a:solidFill>
                <a:latin typeface="Calibri"/>
              </a:rPr>
              <a:t>Industrial Developmet</a:t>
            </a:r>
            <a:r>
              <a:rPr b="0" lang="en-US" sz="2000" spc="-1" strike="noStrike">
                <a:solidFill>
                  <a:srgbClr val="000000"/>
                </a:solidFill>
                <a:latin typeface="Calibri"/>
              </a:rPr>
              <a:t> </a:t>
            </a:r>
            <a:br>
              <a:rPr sz="2000"/>
            </a:br>
            <a:br>
              <a:rPr sz="2000"/>
            </a:br>
            <a:r>
              <a:rPr b="0" lang="ar-IQ" sz="2000" spc="-1" strike="noStrike">
                <a:solidFill>
                  <a:srgbClr val="000000"/>
                </a:solidFill>
                <a:latin typeface="Calibri"/>
                <a:cs typeface="Times New Roman"/>
              </a:rPr>
              <a:t>وهي السياسة المخططة التي توجه نحو تنمية او تطوير الصناعة باقامة صناعات جديدة او توسيع الصناعات القائمة,وتهدف الى رفع الانتاج وتعظيم الارباح وزيادة قدرة المنتجات على المنافسة في الاسواق من خلال خفض كلف أنتاجها وتحسين نوعها.وتشمل ايضآ تحديث المصانع وتحسين انتاجية العمل وبناؤ قاعدة لأنتاج الطاقة وخدمات الصناعة والاستحدام الافضل لمقومات الصناعة وامكاناتها المتاحة الطبيعية والبشرية.</a:t>
            </a:r>
            <a:br>
              <a:rPr sz="2000"/>
            </a:br>
            <a:r>
              <a:rPr b="0" lang="ar-IQ" sz="2000" spc="-1" strike="noStrike">
                <a:solidFill>
                  <a:srgbClr val="000000"/>
                </a:solidFill>
                <a:latin typeface="Calibri"/>
                <a:cs typeface="Times New Roman"/>
              </a:rPr>
              <a:t>ان مساعي تحقيق التنمية الصناعية تتطلب اتخاذ اجراءات واصدار قوانين فضلا عن العامل الاكثر اهمية وهو التخصيصات الاستثمارية.على ان هذا يمكن ان تتحمل اعباءه جهات متتعدة ابتداءآمن الجهات الحكومية مرورآبالهيئات المحلية مفاصل الدولة الادنى وانتهاء بشركات الانتاج الصناعي ومالكيها الافراد.</a:t>
            </a:r>
            <a:br>
              <a:rPr sz="2000"/>
            </a:br>
            <a:r>
              <a:rPr b="0" lang="ar-IQ" sz="2000" spc="-1" strike="noStrike">
                <a:solidFill>
                  <a:srgbClr val="000000"/>
                </a:solidFill>
                <a:latin typeface="Calibri"/>
                <a:cs typeface="Times New Roman"/>
              </a:rPr>
              <a:t>تتباين اراء الباحثين في الاسلوب الذي ينبغي اعتماده لتحقيق التنمية الصناعية ضمن اطار التنمية الاقتصادية فالبعض يرى من الضروري توزيع التخصيصات الاستثمارية بين القطاعات الاقتصادية للبلاد بحيث تؤدي الى نمو متوازن للاقتصاد الوطني ككل,في حين تدعو اراء اخرى الى تركيز نسبة كبيرة منها في القطاع الصناعي لقدرته على تحفيز التنمية ورفدها في قطاعات الاقتصاد كافه.</a:t>
            </a:r>
            <a:br>
              <a:rPr sz="2000"/>
            </a:br>
            <a:r>
              <a:rPr b="0" lang="ar-IQ" sz="2000" spc="-1" strike="noStrike">
                <a:solidFill>
                  <a:srgbClr val="000000"/>
                </a:solidFill>
                <a:latin typeface="Calibri"/>
                <a:cs typeface="Times New Roman"/>
              </a:rPr>
              <a:t>وان ايلاء التنمية الصناعية رجحانآ يأتي لقدرتها على تحقيق مجموعه من الاهداف كلآ او بعضآ وهي:--</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6600" y="102960"/>
            <a:ext cx="8972640" cy="66214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ولآ: تعجيل وتأثير نمو الناتج القومي والآقليمي الاجماليين وذلك عن طريق زيادة إسهام قطاع الصناعة فيه.</a:t>
            </a:r>
            <a:br>
              <a:rPr sz="2000"/>
            </a:br>
            <a:r>
              <a:rPr b="0" lang="ar-IQ" sz="2000" spc="-1" strike="noStrike">
                <a:solidFill>
                  <a:srgbClr val="000000"/>
                </a:solidFill>
                <a:latin typeface="Calibri"/>
                <a:cs typeface="Times New Roman"/>
              </a:rPr>
              <a:t>ثانيآ: معالجة مشكلة البطالة وامتصاص الاعداد الفائضة وغير الموظفة وإيجاد فرص عمل لها في القطاع الصناعي وفي بقية قطاعات الاقتصاد.</a:t>
            </a:r>
            <a:br>
              <a:rPr sz="2000"/>
            </a:br>
            <a:r>
              <a:rPr b="0" lang="ar-IQ" sz="2000" spc="-1" strike="noStrike">
                <a:solidFill>
                  <a:srgbClr val="000000"/>
                </a:solidFill>
                <a:latin typeface="Calibri"/>
                <a:cs typeface="Times New Roman"/>
              </a:rPr>
              <a:t>ثالثآ: خفض معدلات تسرب النقد الاجنبي الى الخارج او تعظيم عوائده بإقامة الصناعات المعوضة عن الاستيراد او تلك المجهة نحو التصدير.</a:t>
            </a:r>
            <a:br>
              <a:rPr sz="2000"/>
            </a:br>
            <a:r>
              <a:rPr b="0" lang="ar-IQ" sz="2000" spc="-1" strike="noStrike">
                <a:solidFill>
                  <a:srgbClr val="000000"/>
                </a:solidFill>
                <a:latin typeface="Calibri"/>
                <a:cs typeface="Times New Roman"/>
              </a:rPr>
              <a:t>رابعآ: إعادة توزيع الدخل بين الافراد والجماعات عبر الزمن بإعادة توزيع الانتاج ومنافعه قطاعيآ بين فروع الاقتصاد ومكانيآ بن الاقليم او بين المناطق الريفية والحضرية.</a:t>
            </a:r>
            <a:br>
              <a:rPr sz="2000"/>
            </a:br>
            <a:r>
              <a:rPr b="0" lang="ar-IQ" sz="2000" spc="-1" strike="noStrike">
                <a:solidFill>
                  <a:srgbClr val="000000"/>
                </a:solidFill>
                <a:latin typeface="Calibri"/>
                <a:cs typeface="Times New Roman"/>
              </a:rPr>
              <a:t>خامسآ: تنويع الانتاج الصناعي بإنتاج سلع صناعية جديدة واقامة فروع جديدة للصناعه.</a:t>
            </a:r>
            <a:br>
              <a:rPr sz="2000"/>
            </a:br>
            <a:r>
              <a:rPr b="0" lang="ar-IQ" sz="2000" spc="-1" strike="noStrike">
                <a:solidFill>
                  <a:srgbClr val="000000"/>
                </a:solidFill>
                <a:latin typeface="Calibri"/>
                <a:cs typeface="Times New Roman"/>
              </a:rPr>
              <a:t>سادسآ: تحقيق قدر اوفر من الاستقرار في القطاع الصناعي وثم استقرار مماثل عموم قطاعات الاقتصاد.</a:t>
            </a:r>
            <a:br>
              <a:rPr sz="2000"/>
            </a:br>
            <a:r>
              <a:rPr b="0" lang="en-US" sz="2000" spc="-1" strike="noStrike">
                <a:solidFill>
                  <a:srgbClr val="000000"/>
                </a:solidFill>
                <a:latin typeface="Calibri"/>
              </a:rPr>
              <a:t> </a:t>
            </a:r>
            <a:r>
              <a:rPr b="0" lang="ar-IQ" sz="2000" spc="-1" strike="noStrike">
                <a:solidFill>
                  <a:srgbClr val="000000"/>
                </a:solidFill>
                <a:latin typeface="Calibri"/>
                <a:cs typeface="Times New Roman"/>
              </a:rPr>
              <a:t>سابعآ: التوجه لإنشاء قاعدة صناعية متقدمة تقنيآ وعمليآ تهيء فرصآ افضل لتقدم علمي في البلاد.</a:t>
            </a:r>
            <a:br>
              <a:rPr sz="2000"/>
            </a:br>
            <a:r>
              <a:rPr b="0" lang="ar-IQ" sz="2000" spc="-1" strike="noStrike">
                <a:solidFill>
                  <a:srgbClr val="000000"/>
                </a:solidFill>
                <a:latin typeface="Calibri"/>
                <a:cs typeface="Times New Roman"/>
              </a:rPr>
              <a:t>ثامنآ: تقود التنمية الصناعية الى احداث تنمية مماثلة في جوانب حياة المجتمع الحضارية وفي قيمة الثقافية والسلوكية العامة.</a:t>
            </a:r>
            <a:br>
              <a:rPr sz="2000"/>
            </a:br>
            <a:r>
              <a:rPr b="0" lang="ar-IQ" sz="2000" spc="-1" strike="noStrike">
                <a:solidFill>
                  <a:srgbClr val="000000"/>
                </a:solidFill>
                <a:latin typeface="Calibri"/>
                <a:cs typeface="Times New Roman"/>
              </a:rPr>
              <a:t>تاسعآ: ويؤمل منها ايجابيآ بتحسين خدمات البنى التحتية  والعمرانية والسكنية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171360" y="85320"/>
            <a:ext cx="8839440" cy="6219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لتخطيط الصناعي::</a:t>
            </a:r>
            <a:br>
              <a:rPr sz="2000"/>
            </a:br>
            <a:br>
              <a:rPr sz="2000"/>
            </a:br>
            <a:r>
              <a:rPr b="0" lang="ar-IQ" sz="2000" spc="-1" strike="noStrike">
                <a:solidFill>
                  <a:srgbClr val="000000"/>
                </a:solidFill>
                <a:latin typeface="Calibri"/>
                <a:cs typeface="Times New Roman"/>
              </a:rPr>
              <a:t>هو تفكيرمبرمج للقيام بفعل او حدث في المستقبل.اي انه عمل مدروس يرسم معالم او </a:t>
            </a:r>
            <a:br>
              <a:rPr sz="2000"/>
            </a:br>
            <a:r>
              <a:rPr b="0" lang="ar-IQ" sz="2000" spc="-1" strike="noStrike">
                <a:solidFill>
                  <a:srgbClr val="000000"/>
                </a:solidFill>
                <a:latin typeface="Calibri"/>
                <a:cs typeface="Times New Roman"/>
              </a:rPr>
              <a:t>خطوط السير لعملية التطوير قبل الشروع فيها.وذالك يعني رسم صورة المستقبل المنتظرة ثم تتخذ القرارات المناسبة بشأن وضع تلك الصورة موضع التطبيق.</a:t>
            </a:r>
            <a:br>
              <a:rPr sz="2000"/>
            </a:br>
            <a:r>
              <a:rPr b="0" lang="ar-IQ" sz="2000" spc="-1" strike="noStrike">
                <a:solidFill>
                  <a:srgbClr val="000000"/>
                </a:solidFill>
                <a:latin typeface="Calibri"/>
                <a:cs typeface="Times New Roman"/>
              </a:rPr>
              <a:t>التخطيط الصناعي:يعني اختيارالموقع المناسب للصناعة والفرع الصناعي المناسب في ذالك الموقع.ان هذا الاختيار يجب ان يبدأ بتحديد الامكانات الصناعية المتاحة ثم الهدف الذي يخطط لتحقيقه والوسائل والادوات المستخدمه للتنفيذ,:</a:t>
            </a:r>
            <a:br>
              <a:rPr sz="2000"/>
            </a:br>
            <a:r>
              <a:rPr b="0" lang="ar-IQ" sz="2000" spc="-1" strike="noStrike">
                <a:solidFill>
                  <a:srgbClr val="000000"/>
                </a:solidFill>
                <a:latin typeface="Calibri"/>
                <a:cs typeface="Times New Roman"/>
              </a:rPr>
              <a:t>والتخطيط الصناعي يشمل الافكار والاجراءات التي تستهدف تطوير النشاط الصناعي وتنميته ليكون فعالا ومؤثرآ في الحياة الاقتصادية عامة في اقليم او الدولة.</a:t>
            </a:r>
            <a:br>
              <a:rPr sz="2000"/>
            </a:br>
            <a:r>
              <a:rPr b="0" lang="ar-IQ" sz="2000" spc="-1" strike="noStrike">
                <a:solidFill>
                  <a:srgbClr val="000000"/>
                </a:solidFill>
                <a:latin typeface="Calibri"/>
                <a:cs typeface="Times New Roman"/>
              </a:rPr>
              <a:t>ان التخطيط الصناعي لايعمل منفردآ بمعزل عن الانماط التخطيط الاخرى كالتخطيط الحضري الاقليمي او الزراعي مثلا </a:t>
            </a:r>
            <a:br>
              <a:rPr sz="2000"/>
            </a:br>
            <a:r>
              <a:rPr b="0" lang="ar-IQ" sz="2000" spc="-1" strike="noStrike">
                <a:solidFill>
                  <a:srgbClr val="000000"/>
                </a:solidFill>
                <a:latin typeface="Calibri"/>
                <a:cs typeface="Times New Roman"/>
              </a:rPr>
              <a:t>يختلف التخطيط الصناعي في مضمونه من دولة لآخرى تبعا لفلسفة السياسية والفكر الاقتصادي والايديولوجي المعتمد في تلك الدول ونلاحظ ثلاث انماط وهي:</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5960" y="93240"/>
            <a:ext cx="8962920" cy="6669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ستراتيجيات التنمية الصناعية وتشمل...</a:t>
            </a:r>
            <a:br>
              <a:rPr sz="2000"/>
            </a:br>
            <a:br>
              <a:rPr sz="2000"/>
            </a:br>
            <a:r>
              <a:rPr b="0" lang="ar-IQ" sz="2000" spc="-1" strike="noStrike">
                <a:solidFill>
                  <a:srgbClr val="000000"/>
                </a:solidFill>
                <a:latin typeface="Calibri"/>
                <a:cs typeface="Times New Roman"/>
              </a:rPr>
              <a:t>اولآ:استراتيجية التصنيع الخفيف :</a:t>
            </a:r>
            <a:br>
              <a:rPr sz="2000"/>
            </a:br>
            <a:r>
              <a:rPr b="0" lang="ar-IQ" sz="2000" spc="-1" strike="noStrike">
                <a:solidFill>
                  <a:srgbClr val="000000"/>
                </a:solidFill>
                <a:latin typeface="Calibri"/>
                <a:cs typeface="Times New Roman"/>
              </a:rPr>
              <a:t>نشأ هذا النمط وتبلورت اساسياته وملامحه عبر تجربة الدول الرأسمالية في امريكا الشمالية وأوربا الغربية ويتحدد مفهوم النمط التلقائي في التصنيع بالتأكيد على ان التنمية الصناعية تتم بشكل تلقائي,اذا ما توفرت للمبادأة الفردية بكافة البيانات والمعلومات اللازمة التي تكفل لليد الخفية ان تأتي بقدراتها السحرية لتحريك عجلة النشاطات الاقتصادية بتحقيق المصالح الفردية للمستثمرين والتي تكون بعدئذ المصلحة العامة,وقد استهدف المستثمرين تأمين مصالحهم في تحقيق اكبر ربح ممكن من خلال استثماراتهم التي يضخونها  في رافد التنمية الصناعية شريطة ان يتم ذالك دون تدخل  من الحكومة.وهذا يعني ان قوى السوق إذا ما اطلق لها العنان فهي دون غيرها  قادرة على تحقيق التوزيع  الامثل للاستثمارات على الصناعات المختلفة  وبالطريقة التي تؤمن مصالح المستثمرين الافراد وحصولهم على اكبر ربح ممكن وبأقل كلفة ممكنة وفي الوقت ذاته تحقيق مصالح المجتمع في التنمية والتقدم والرخاء.وطبقآ لقانون (انجل) الخاص بمرونة الطلب الداخلية,فان زيادة معدل دخل الفرد بعد حد معين يترتب عليه تغير في اتجاه الطلب نحو السلع الاستهلاكية الصناعية,وبالتالي يؤدي الارتفاع في حجم الطلب على منتجات هذه الصناعات الى زيادة الاستثمارات في هذا المجال بدافع الربح ووفق تفاعل قوى السوق, ومن ثم التوسع في هذه الصناعات بعدئذ.وطبقآ لمنطوق نمط التصنيع التلقائي, فان التنمية الصناعية تتحقق  بطريقة سلسة وتلقائية تحت دفع السوق (الطلب) وعبر مراحل زمنية يتم فيها الانتقال من الصناعات الخفيفية(الاستهلاكية) التي يكون عليها الطلب قائمآ وكافيآ في بدء عهد التنمية . وبذالك نجد ان القاعده الصناعية قد استكملت بنائها تلقائيآ وبتدرج بطيء عند دخول الاقتصاد القومي مرحلة الصناعات  الثقيلة بفعل الية السوق التي تحرك استثمارات الافراد في نطاق الاتجاهات الكفيلة بتحقيق التنمية الصناعي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6600" y="83880"/>
            <a:ext cx="8972640" cy="6707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ea typeface="Times New Roman"/>
              </a:rPr>
              <a:t>*عدم قدرة النمط التلقائي على تصنيع الدول النامية اليوم:</a:t>
            </a:r>
            <a:br>
              <a:rPr sz="2000"/>
            </a:br>
            <a:br>
              <a:rPr sz="2000"/>
            </a:br>
            <a:r>
              <a:rPr b="0" lang="ar-IQ" sz="2000" spc="-1" strike="noStrike">
                <a:solidFill>
                  <a:srgbClr val="000000"/>
                </a:solidFill>
                <a:latin typeface="Calibri"/>
                <a:cs typeface="Times New Roman"/>
              </a:rPr>
              <a:t>ان اطار الحرية الاقتصادية الذي احاط بالنمط التلقائي في التصنيع وما يعنيه من ترك زمام التنمية والتصنيع للمبادرات الفردية وقوى السوق, وقد اكتنفته شكوك  كثيرة  وهي بالضرورة تأكيد على عدم قدرته في تحقيق التنمية الاقتصادية عامه والصناعية خاصة في البلدان النامية في ظروفها الحالية بالمشروع الخاص  في الدول النامية على الاغلب لن يكون المرشح لتحمل المسؤلية التنمية  والتصنيع الكبيرة  كما ان نظام السوق كسياج لتخصيص الموارد  يعاني من ضعف فاعليته وتعيقه في الاضطلاع في هذه المهمة,ولتدليل عللى وجهة النظر هذه يمكننا الاستهداء بالحقائق الاتية:»</a:t>
            </a:r>
            <a:br>
              <a:rPr sz="2000"/>
            </a:b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ان عملية التصنيع ذاتها قد لحقها تغير كبير بحكم التطور العلمي  والتقدم التقني , وان ارتفاع  درجة الاتوماتيكية في التكنلوجية الصناعية لاتساعد في حل المشاكل  الاساسية التي تواجه عملية التصنيع والتنمية في الدول النامية اذ الن الاتجاهات التكنلوجية الحديثة تعمل بأتجاه معاكس او مضار لمصالح الدول النامية لكون الدرجة الاتوماتيكية المرتفعة تعني تكثيف عالي لعنصر رأس المال مقارنة بعنصر العمل .</a:t>
            </a:r>
            <a:br>
              <a:rPr sz="2000"/>
            </a:b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ان التقدم الصناعي الذي تحقق في الدول الرأسمالية المتقدمة  قد تحقق على حساب تضحيات جسيمة من الاجيال وخصوصآ اجيال العمال المتعاقبة وقت ذالك.</a:t>
            </a:r>
            <a:br>
              <a:rPr sz="2000"/>
            </a:b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ان مشكلة ضيق نطاق السوق تقف حائلآ بين الدول النامية وطموحاتها في التصنيع وبين عجزها عن استغلال طاقتها ومواردها المتاحة بهدف تعبئتها من الوحدات الصناعية ,ومن ثم يأتي انخفاض مستوى دخل الفرد الحقيقي نتيجة لضعف نمو الدخل القومي وقلة التراكم سببآ اخر في تعميق فجوة هذه المشكلة وسد الطريق بوجه الدول النامي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84240"/>
            <a:ext cx="8924760" cy="6697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ea typeface="Times New Roman"/>
              </a:rPr>
              <a:t>4</a:t>
            </a:r>
            <a:r>
              <a:rPr b="0" lang="ar-IQ" sz="2000" spc="-1" strike="noStrike">
                <a:solidFill>
                  <a:srgbClr val="000000"/>
                </a:solidFill>
                <a:latin typeface="Calibri"/>
                <a:ea typeface="Times New Roman"/>
              </a:rPr>
              <a:t>.ان النتيجة المنطقية لوضع التبعية الاقتصادية الكاملة التي تحكم واقع الدول النامية  وعدم تكافئ الفرص العلاقات بين الدول الصناعية المتقدمة وهذه الدول الصغيرة  بسبب عهود الاسعتمار الطويل والنهب والاستيلاب الذي تعرضت له موارد وخيرات الدول النامية. كل هذه التناقضات الحادة  كانت الحلقة الصلبة التي تهدد مصير التنمية  والتصنيع في دول العالم الثالث .</a:t>
            </a:r>
            <a:br>
              <a:rPr sz="2000"/>
            </a:br>
            <a:r>
              <a:rPr b="0" lang="ar-IQ" sz="2000" spc="-1" strike="noStrike">
                <a:solidFill>
                  <a:srgbClr val="000000"/>
                </a:solidFill>
                <a:latin typeface="Calibri"/>
                <a:ea typeface="Times New Roman"/>
              </a:rPr>
              <a:t>5</a:t>
            </a:r>
            <a:r>
              <a:rPr b="0" lang="ar-IQ" sz="2000" spc="-1" strike="noStrike">
                <a:solidFill>
                  <a:srgbClr val="000000"/>
                </a:solidFill>
                <a:latin typeface="Calibri"/>
                <a:ea typeface="Times New Roman"/>
              </a:rPr>
              <a:t>.ان الدول الصناعية المتقدمة  لم تواجه  اثناء فترات نموها  الاقتصادي والصناعي مشكلة سكانية بالحدة التي تواجهها  اليوم الدول النامية  وما تشكله هذه الزيادة السكانية من ضغط على مواردها الاقتصادية  لذالك نجدها تتحمل عبء توفير الغذاء اللازم وخدمات التعليم والصحة والسكن .</a:t>
            </a:r>
            <a:br>
              <a:rPr sz="2000"/>
            </a:br>
            <a:r>
              <a:rPr b="0" lang="ar-IQ" sz="2000" spc="-1" strike="noStrike">
                <a:solidFill>
                  <a:srgbClr val="000000"/>
                </a:solidFill>
                <a:latin typeface="Calibri"/>
                <a:ea typeface="Times New Roman"/>
              </a:rPr>
              <a:t>6</a:t>
            </a:r>
            <a:r>
              <a:rPr b="0" lang="ar-IQ" sz="2000" spc="-1" strike="noStrike">
                <a:solidFill>
                  <a:srgbClr val="000000"/>
                </a:solidFill>
                <a:latin typeface="Calibri"/>
                <a:ea typeface="Times New Roman"/>
              </a:rPr>
              <a:t>.الركون للمبادرة الفردية وترك الضمان لقوى السوق والاحتكام في توزيع الاستثمارات الصناعية الى عامل الربح ,لا يمكن ان تكون قادرة على توزيع الاستثمارات في المشاريع ذات النفع العام (مشاريع الهياكل الاساسية الاجتماعية)لانتقاء جانب الربح الكبير فيها بقدر ماتسعى  الى تحريك استثماراتها  وتوجيهها الى المجالات التي تكون فيها المجازفه وعنصر المخاطرة اقل مايمكن (رأس المال الخاص متردد بطبيعته  ولا يتحمل المخاطرة والخسارة) وبالتالي يكون الربح محققآ وكبيرآ.</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5320" y="84240"/>
            <a:ext cx="8953560" cy="6697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ثانيآ:</a:t>
            </a:r>
            <a:br>
              <a:rPr sz="2000"/>
            </a:br>
            <a:r>
              <a:rPr b="0" lang="ar-IQ" sz="2000" spc="-1" strike="noStrike">
                <a:solidFill>
                  <a:srgbClr val="000000"/>
                </a:solidFill>
                <a:latin typeface="Calibri"/>
                <a:cs typeface="Times New Roman"/>
              </a:rPr>
              <a:t>استراتيجية التصنيع الثقيل:</a:t>
            </a:r>
            <a:br>
              <a:rPr sz="2000"/>
            </a:br>
            <a:br>
              <a:rPr sz="2000"/>
            </a:br>
            <a:r>
              <a:rPr b="0" lang="ar-IQ" sz="2000" spc="-1" strike="noStrike">
                <a:solidFill>
                  <a:srgbClr val="000000"/>
                </a:solidFill>
                <a:latin typeface="Calibri"/>
                <a:cs typeface="Times New Roman"/>
              </a:rPr>
              <a:t>اعتمدت تجربة التصنيع الثقيل بادئآ ذي  بدء في الاتحاد السوفيتي سابقآ وبعدئذ في دول مجموعة (الكوميكون)حيث حلت الخطة القومية  المركزية محل قوى السوق وجهاز الاسعار ,بهدف تحريك النشاط الاقتصادي  وتوجيه  الموارد المتاحة وتوزيعها على اوجه النشاط المختلفة. الامر الذي تميز بوضع استراتيجية  التنمية عامة والتصنيع خاصة وبالتالي اصبح اسلوب التنمية المخططة هو المركز الاساس لا الاسلوب التلقائي.ومعنى ذالك ان عملية التصنيع بموجب هذه الستراتيجية تبدأ بتخطيط الاقتصاد القومي بشكل عام والتصنيع بشكل خاص يهدف الى زيادة الانتاج وسائل الانتاج تحت دفع العرض,او بمعنى ثاني  اتباع اسلوب التصنيع الثقيل او مايصطلح عليه نمط التصنيع الثقيل مدفوعآ للعرض ,وبقيام الاقتصاد القومي  ببناء وتوفير القاعدة الواسعة من صناعة  الالات والوسائل المنتجة لوسائل الانتاج تحقق الظروف والمقدمات المادية لعملية انطلاق والنمو مما يعني ارتفاعآ مستمرآ او مضطردآ في متوسط دخل الفرد الحقيقي والامر الذي يخلق طلبآ متزايدآ على السلع الاستهلاكية لابد ان ينصرف للاستثمارات الصناعية في هذه المرحلة الى صناعة السلع الاستهلاكية  وهذا النوع يسمى  بالطلب  المنسق  لانه  يعمق  توجه الاستثمارات الى الصناعات  الاستهلاكية  وبفعل الضغط  الذي تتعرض له فان احتياجاتها من السلع  الانتاجية تعود مجددآ للزيادة بفعل تنامي  الطلب على منتجاتها الاستهلاكية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5320" y="84240"/>
            <a:ext cx="8953560" cy="6697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عدم جدوى ستراتيجية التصنيع الثقيل:: وتكون لعدة اسباب وهي:</a:t>
            </a:r>
            <a:br>
              <a:rPr sz="2000"/>
            </a:br>
            <a:br>
              <a:rPr sz="2000"/>
            </a:br>
            <a:r>
              <a:rPr b="0" lang="ar-IQ" sz="2000" spc="-1" strike="noStrike">
                <a:solidFill>
                  <a:srgbClr val="000000"/>
                </a:solidFill>
                <a:latin typeface="Calibri"/>
              </a:rPr>
              <a:t>1</a:t>
            </a:r>
            <a:r>
              <a:rPr b="0" lang="ar-IQ" sz="2000" spc="-1" strike="noStrike">
                <a:solidFill>
                  <a:srgbClr val="000000"/>
                </a:solidFill>
                <a:latin typeface="Calibri"/>
              </a:rPr>
              <a:t>-لقد استحدثت مجموعه من الدول الاشتراكية تكنلوجيا خاصة بما يتناسب وظروفها الخاصة ولم تكن الفجوة التكنلوجية بالحجم والضخامة التي تعاني منها الدول النامية.</a:t>
            </a:r>
            <a:br>
              <a:rPr sz="2000"/>
            </a:br>
            <a:r>
              <a:rPr b="0" lang="ar-IQ" sz="2000" spc="-1" strike="noStrike">
                <a:solidFill>
                  <a:srgbClr val="000000"/>
                </a:solidFill>
                <a:latin typeface="Calibri"/>
              </a:rPr>
              <a:t>2</a:t>
            </a:r>
            <a:r>
              <a:rPr b="0" lang="ar-IQ" sz="2000" spc="-1" strike="noStrike">
                <a:solidFill>
                  <a:srgbClr val="000000"/>
                </a:solidFill>
                <a:latin typeface="Calibri"/>
              </a:rPr>
              <a:t>-مكنت الظروف التاريخية لهذه الدول من انجاح سياسة الانغلاق او الحصار التي فرضته على نفسها لمواجهة دول الغرب الرأسمالي  مما ساعدها على تجنب العديد من المشاكل والتخلص من اثار موجات التضخم والانكماش التي تنخر في اقتصاديات الدول الرأسمالية</a:t>
            </a:r>
            <a:br>
              <a:rPr sz="2000"/>
            </a:br>
            <a:r>
              <a:rPr b="0" lang="ar-IQ" sz="2000" spc="-1" strike="noStrike">
                <a:solidFill>
                  <a:srgbClr val="000000"/>
                </a:solidFill>
                <a:latin typeface="Calibri"/>
              </a:rPr>
              <a:t>3</a:t>
            </a:r>
            <a:r>
              <a:rPr b="0" lang="ar-IQ" sz="2000" spc="-1" strike="noStrike">
                <a:solidFill>
                  <a:srgbClr val="000000"/>
                </a:solidFill>
                <a:latin typeface="Calibri"/>
              </a:rPr>
              <a:t>- حققت الكتلة الاشتراكية تقدمها الاقتصادي ونموها الصناعي بفترة قياسية ويجب ان لا يغيب عن البال مقدار التضحيات الجسيمة التي تحملها شعوبها وما عانته من تقشف قاس </a:t>
            </a:r>
            <a:br>
              <a:rPr sz="2000"/>
            </a:br>
            <a:r>
              <a:rPr b="0" lang="ar-IQ" sz="2000" spc="-1" strike="noStrike">
                <a:solidFill>
                  <a:srgbClr val="000000"/>
                </a:solidFill>
                <a:latin typeface="Calibri"/>
              </a:rPr>
              <a:t>4</a:t>
            </a:r>
            <a:r>
              <a:rPr b="0" lang="ar-IQ" sz="2000" spc="-1" strike="noStrike">
                <a:solidFill>
                  <a:srgbClr val="000000"/>
                </a:solidFill>
                <a:latin typeface="Calibri"/>
              </a:rPr>
              <a:t>-لم تواجه الدول الاشتراكية ماتواجهه الدول النامية الان من مشكلة ازدحام سكاني في مرحلة نموها الصناعي وتطورها الاقتصادي </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 y="93240"/>
            <a:ext cx="8934480" cy="6697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ثالثآ:سياسة احلال الواردات </a:t>
            </a:r>
            <a:br>
              <a:rPr sz="2000"/>
            </a:br>
            <a:br>
              <a:rPr sz="2000"/>
            </a:br>
            <a:r>
              <a:rPr b="0" lang="ar-IQ" sz="2000" spc="-1" strike="noStrike">
                <a:solidFill>
                  <a:srgbClr val="000000"/>
                </a:solidFill>
                <a:latin typeface="Calibri"/>
              </a:rPr>
              <a:t>تعرف هذه السياسة بأنها السياسة القائمة على تشجيع الانتاج المحلي لمجموعة سلع كانت تستورد بواسطة رفع التعريفة الجمركية او فرض قيود على الاستيراد على بضائعها .ولإنتاج هذه السلع محليآ فأنه من الضروري استيراد سلع اخرى مثل السلع الرأسمالية والمدخلات.</a:t>
            </a:r>
            <a:br>
              <a:rPr sz="2000"/>
            </a:br>
            <a:r>
              <a:rPr b="0" lang="ar-IQ" sz="2000" spc="-1" strike="noStrike">
                <a:solidFill>
                  <a:srgbClr val="000000"/>
                </a:solidFill>
                <a:latin typeface="Calibri"/>
              </a:rPr>
              <a:t>ان هذه السياسة تعني ان ننتج محليآ ما كنا نستورده من قبل او ننتج ما كان يمكن ان نقوم بأستيراده  لو لم نقم بهذا الانتاج . ويتم تطبيق هذه السياسة على ثلاث مراحل بحيث ان الخروج من المرحلة الاولى يترتب الدخول في المرحلة الثانية فالثالثة.</a:t>
            </a:r>
            <a:br>
              <a:rPr sz="2000"/>
            </a:br>
            <a:r>
              <a:rPr b="0" lang="ar-IQ" sz="2000" spc="-1" strike="noStrike">
                <a:solidFill>
                  <a:srgbClr val="000000"/>
                </a:solidFill>
                <a:latin typeface="Calibri"/>
              </a:rPr>
              <a:t>تبدأ المرحلة الاولى بإقامة الصناعات المنتجة للسلع الاستهلاكية غير المعمرة مثل صناعة النسيج والجلود والخشب وإنتاج كل هذه الصناعات يتم إحلاله محل الواردات .يتم هذا الاحلال بالحد من السلع الاستهلاكية البسيطة وغير المعمرة وذالك بأستخدام اجراءات الحماية المختلفة مع قصر الانتاج في السوق المحلية فيزداد الانتاج المحلي بدرجة اكبر واسرع من الاستهلاك المحلي ويغطي ذالك الإنتاج الطلب المحلي.تحدث هذه العملية بالتدريج وعلى مدى سنوات عديدة الى ان يحصل الاحلال الكامل محل الواردات فيبدأ بعدها الانتاج المحلي بالانخفاض الى ان يصل الى مستوى الاستهلاك المحلي وهنا يحصل انخفاض في معدل النمو الصناعي ,ولزيادة معدل النمو الصناعي لابد من الدخول في المرحلة الثانية حيث تتضمن هذه المرحلة احلال الواردات من السلع الاستهلاكية المعمرة مثل الثلاجات والسيارات .وكذالك بعض السلع الوسيطة مثل صناعة الحديد والصلب وبعض الصناعات البتروكيمياوية وتتميز هذه المرحلة باستخدام كثيف لرأس المال والعمالة المؤهلة والتكنلوجيا المتطورة.اما المرحلة الثالثة تتضمن الإحلال محل السلع الانتاجية المعمرة كالآلآت والمعدات وغيرها من مستلزمات الانتاج الرإسمالية.وتتميز هذه الصناعات انها كبيرة الحجم وتدر ارباحآ متواضعه وتستخدم تكنلوجيا متقدمة وعمالة متزايد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122040"/>
            <a:ext cx="8915400" cy="66402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اهداف سياسة احلال الواردات</a:t>
            </a:r>
            <a:br>
              <a:rPr sz="2000"/>
            </a:br>
            <a:br>
              <a:rPr sz="2000"/>
            </a:br>
            <a:r>
              <a:rPr b="0" lang="ar-IQ" sz="2000" spc="-1" strike="noStrike">
                <a:solidFill>
                  <a:srgbClr val="000000"/>
                </a:solidFill>
                <a:latin typeface="Calibri"/>
              </a:rPr>
              <a:t>1</a:t>
            </a:r>
            <a:r>
              <a:rPr b="0" lang="ar-IQ" sz="2000" spc="-1" strike="noStrike">
                <a:solidFill>
                  <a:srgbClr val="000000"/>
                </a:solidFill>
                <a:latin typeface="Calibri"/>
              </a:rPr>
              <a:t>.تهدف هذه السياسة بشكل اساس الى اشباع الاحتياجات المحلية من السلع المصنعة عن طريق بناء القدرة الذاتية للاقتصاد.</a:t>
            </a:r>
            <a:br>
              <a:rPr sz="2000"/>
            </a:br>
            <a:r>
              <a:rPr b="0" lang="ar-IQ" sz="2000" spc="-1" strike="noStrike">
                <a:solidFill>
                  <a:srgbClr val="000000"/>
                </a:solidFill>
                <a:latin typeface="Calibri"/>
              </a:rPr>
              <a:t>2</a:t>
            </a:r>
            <a:r>
              <a:rPr b="0" lang="ar-IQ" sz="2000" spc="-1" strike="noStrike">
                <a:solidFill>
                  <a:srgbClr val="000000"/>
                </a:solidFill>
                <a:latin typeface="Calibri"/>
              </a:rPr>
              <a:t>.ان هذا النمط من التصنيع وابتداء من مراحله الاولى التي تشجع على اقامة وتوسيع الصناعات بالكامل الاستهلاكية سيؤدي الى تطور وتوسع الصناعة بالكامل ولاسيما عند الدخول في المراحل اللاحقه لسياسة الاحلال والتي تتمثل في الاحلال محل الصناعات الوسيطة والانتاجية.</a:t>
            </a:r>
            <a:br>
              <a:rPr sz="2000"/>
            </a:br>
            <a:r>
              <a:rPr b="0" lang="ar-IQ" sz="2000" spc="-1" strike="noStrike">
                <a:solidFill>
                  <a:srgbClr val="000000"/>
                </a:solidFill>
                <a:latin typeface="Calibri"/>
              </a:rPr>
              <a:t>3</a:t>
            </a:r>
            <a:r>
              <a:rPr b="0" lang="ar-IQ" sz="2000" spc="-1" strike="noStrike">
                <a:solidFill>
                  <a:srgbClr val="000000"/>
                </a:solidFill>
                <a:latin typeface="Calibri"/>
              </a:rPr>
              <a:t>.تهدف سياسة احلال الواردات الى توفير العمالة الاجنبية داخل الاقتصاد الوطني خاصة اذا انتشر الانتاج المحلي وتوسع قدر الامكان.</a:t>
            </a:r>
            <a:br>
              <a:rPr sz="2000"/>
            </a:br>
            <a:r>
              <a:rPr b="0" lang="ar-IQ" sz="2000" spc="-1" strike="noStrike">
                <a:solidFill>
                  <a:srgbClr val="000000"/>
                </a:solidFill>
                <a:latin typeface="Calibri"/>
              </a:rPr>
              <a:t>4</a:t>
            </a:r>
            <a:r>
              <a:rPr b="0" lang="ar-IQ" sz="2000" spc="-1" strike="noStrike">
                <a:solidFill>
                  <a:srgbClr val="000000"/>
                </a:solidFill>
                <a:latin typeface="Calibri"/>
              </a:rPr>
              <a:t>.تتيح ايضآ خلق قاعدة صناعية متعددة الانشطة تسمح في المراحل المتقدمة بتكوين الكوادر المؤهلة فنيآ واللازمة لتشغيل وصيانة المشاريع الصناعية المتنوعة وتطوير طاقة الاقتصاد على تنويع صادراته الصناعية.</a:t>
            </a:r>
            <a:br>
              <a:rPr sz="2000"/>
            </a:br>
            <a:r>
              <a:rPr b="0" lang="ar-IQ" sz="2000" spc="-1" strike="noStrike">
                <a:solidFill>
                  <a:srgbClr val="000000"/>
                </a:solidFill>
                <a:latin typeface="Calibri"/>
              </a:rPr>
              <a:t>5</a:t>
            </a:r>
            <a:r>
              <a:rPr b="0" lang="ar-IQ" sz="2000" spc="-1" strike="noStrike">
                <a:solidFill>
                  <a:srgbClr val="000000"/>
                </a:solidFill>
                <a:latin typeface="Calibri"/>
              </a:rPr>
              <a:t>.تهدف الى زيادة معدلات الاستثمار والادخار ,وذالك لان سياسة الحماية التي يعتمد عليها هذا النمط من التصنيع تؤدي الى تغير معدلات التبادل المحلي لصالح قطاع الصناع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5320" y="93600"/>
            <a:ext cx="8962920" cy="6678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سلبيات سياسة احلال الواردات :</a:t>
            </a:r>
            <a:br>
              <a:rPr sz="2000"/>
            </a:br>
            <a:br>
              <a:rPr sz="2000"/>
            </a:br>
            <a:r>
              <a:rPr b="0" lang="ar-IQ" sz="2000" spc="-1" strike="noStrike">
                <a:solidFill>
                  <a:srgbClr val="000000"/>
                </a:solidFill>
                <a:latin typeface="Calibri"/>
              </a:rPr>
              <a:t>1</a:t>
            </a:r>
            <a:r>
              <a:rPr b="0" lang="ar-IQ" sz="2000" spc="-1" strike="noStrike">
                <a:solidFill>
                  <a:srgbClr val="000000"/>
                </a:solidFill>
                <a:latin typeface="Calibri"/>
              </a:rPr>
              <a:t>.اهملت هذه السياسة الطلب المحلي القائم ولم تأخذ بالاعتبار الطلب المستقبلي  والذي يتحدد بعملية البناء الصناعي المتكامل تكنلوجيآ, وإنتاجيآ, وتسويقيآ.</a:t>
            </a:r>
            <a:br>
              <a:rPr sz="2000"/>
            </a:br>
            <a:r>
              <a:rPr b="0" lang="ar-IQ" sz="2000" spc="-1" strike="noStrike">
                <a:solidFill>
                  <a:srgbClr val="000000"/>
                </a:solidFill>
                <a:latin typeface="Calibri"/>
              </a:rPr>
              <a:t>2</a:t>
            </a:r>
            <a:r>
              <a:rPr b="0" lang="ar-IQ" sz="2000" spc="-1" strike="noStrike">
                <a:solidFill>
                  <a:srgbClr val="000000"/>
                </a:solidFill>
                <a:latin typeface="Calibri"/>
              </a:rPr>
              <a:t>.لم تسطع هذه السياسة تحقيق ذلك الوفر من العملات الاجنبية والذي من شأنه تغطية الاحتياجات من السلع الانتاجية والوسيطة المستوردة ,ويرجع ذلك الى الاندفاع في بداية مراحل التصنيع الى الرغبة في تحقيق الاكتفاء الذاتي والاستغناء عن الاستيراد وذلك بأقامة الصناعات الاستهلاكية والاهتمام بها على حساب الصناعات التصديرية.</a:t>
            </a:r>
            <a:br>
              <a:rPr sz="2000"/>
            </a:br>
            <a:r>
              <a:rPr b="0" lang="ar-IQ" sz="2000" spc="-1" strike="noStrike">
                <a:solidFill>
                  <a:srgbClr val="000000"/>
                </a:solidFill>
                <a:latin typeface="Calibri"/>
              </a:rPr>
              <a:t>3</a:t>
            </a:r>
            <a:r>
              <a:rPr b="0" lang="ar-IQ" sz="2000" spc="-1" strike="noStrike">
                <a:solidFill>
                  <a:srgbClr val="000000"/>
                </a:solidFill>
                <a:latin typeface="Calibri"/>
              </a:rPr>
              <a:t>.فشلت هذه السياسة في اختراق سوق الصادرات واعتمدت فقط على تصدير المواد الاولية .</a:t>
            </a:r>
            <a:br>
              <a:rPr sz="2000"/>
            </a:br>
            <a:r>
              <a:rPr b="0" lang="ar-IQ" sz="2000" spc="-1" strike="noStrike">
                <a:solidFill>
                  <a:srgbClr val="000000"/>
                </a:solidFill>
                <a:latin typeface="Calibri"/>
              </a:rPr>
              <a:t>4</a:t>
            </a:r>
            <a:r>
              <a:rPr b="0" lang="ar-IQ" sz="2000" spc="-1" strike="noStrike">
                <a:solidFill>
                  <a:srgbClr val="000000"/>
                </a:solidFill>
                <a:latin typeface="Calibri"/>
              </a:rPr>
              <a:t>.لم يتم تطبيق هذه السياسة بشكل سليم لان السلع الرأسمالية والآلآت المستوردة صممت اساسآ لتلائم ظروف الدول الصناعية فهي تتيح تلافي النقص في الايدي العاملة  وبالتالي تحويلها الى دول نامية سيزيد مشكلة البطالة الصناعية بدل من تخيضها.</a:t>
            </a:r>
            <a:br>
              <a:rPr sz="2000"/>
            </a:br>
            <a:r>
              <a:rPr b="0" lang="ar-IQ" sz="2000" spc="-1" strike="noStrike">
                <a:solidFill>
                  <a:srgbClr val="000000"/>
                </a:solidFill>
                <a:latin typeface="Calibri"/>
              </a:rPr>
              <a:t>5</a:t>
            </a:r>
            <a:r>
              <a:rPr b="0" lang="ar-IQ" sz="2000" spc="-1" strike="noStrike">
                <a:solidFill>
                  <a:srgbClr val="000000"/>
                </a:solidFill>
                <a:latin typeface="Calibri"/>
              </a:rPr>
              <a:t>.لم تساهم هذه السياسة في تطوير وتوسيع قطاع الزراعة وذلك لان الدول النامية كانت انذاك في بداية ماحلها التصنيعية ولم تكن مؤهلة لانتاج وسائل للزراعة المحلي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5400" y="102960"/>
            <a:ext cx="8943840" cy="6678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رابعآ:: ستراتيجية التصنيع من اجل التصدير:</a:t>
            </a:r>
            <a:br>
              <a:rPr sz="2000"/>
            </a:br>
            <a:br>
              <a:rPr sz="2000"/>
            </a:br>
            <a:r>
              <a:rPr b="0" lang="ar-IQ" sz="2000" spc="-1" strike="noStrike">
                <a:solidFill>
                  <a:srgbClr val="000000"/>
                </a:solidFill>
                <a:latin typeface="Calibri"/>
              </a:rPr>
              <a:t>ان نزعة استراتيجية التصنيع من اجل التصدير هي ظاهرة نسبية. اضف الى ذلك انها لم تشمل جميع بلدان اسيا بعد ويبدو ان الحافز الفعلي للنمو الاقتصادي  يمكن ان ينحصر فقط في تطور تلك الفروع التصديرية ذات القدرة التنافسية لمواصفاتها العالية ويبد ان هذه الفروع لا تحقق وتائر عالية ومستمرة للنمو الاقتصادي وذلك ان الاحتكارات الاجنبية يهمها في الوقت الحاضر تكوين ثلاث مجموعات من الانتاج التصديري في الدول النامية وهي :التصنيع الاولي للمواد الأولى الزراعية او المعدنية والموارد المائية لذلك ان تركز الجهود على هذه الستراتيجية  يعمق النتائج الاجتماعية غير المرضية لعملية التصنيع لما يتطلبه من وسائل ضخمة واساليب متطورة ذات مردود كبير , فيما تعاني البلدان النامية من نقص الاموال والبطالة الجزئية او الكاملة وعلى هذا الاساس يتعين على الدول النامية التخلي عن هذا التكتيك اذا كان الاتجاه منصبآ على السوق المحلية الضيقة.</a:t>
            </a:r>
            <a:br>
              <a:rPr sz="2000"/>
            </a:br>
            <a:r>
              <a:rPr b="0" lang="ar-IQ" sz="2000" spc="-1" strike="noStrike">
                <a:solidFill>
                  <a:srgbClr val="000000"/>
                </a:solidFill>
                <a:latin typeface="Calibri"/>
              </a:rPr>
              <a:t>وتأسيسآ على ما ذكرناه نقول ان الستراتيجية  من اجل التصدير قد تحورت تاريخيآ في البدء من الجيوب الستراتيجية تارة وعالية الكثافة تارة اخرى او المتحكمة في طرق التجارة الرأسمالية الدولية على نافذة الاسواق الحالية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14480" y="93600"/>
            <a:ext cx="8905680" cy="6678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alibri"/>
              </a:rPr>
              <a:t>المصادر:</a:t>
            </a:r>
            <a:br>
              <a:rPr sz="2400"/>
            </a:br>
            <a:r>
              <a:rPr b="0" lang="ar-IQ" sz="2400" spc="-1" strike="noStrike">
                <a:solidFill>
                  <a:srgbClr val="000000"/>
                </a:solidFill>
                <a:latin typeface="Calibri"/>
              </a:rPr>
              <a:t>هشام محمد صالح ,جغرافية الصناعة</a:t>
            </a:r>
            <a:br>
              <a:rPr sz="2400"/>
            </a:br>
            <a:r>
              <a:rPr b="0" lang="ar-IQ" sz="2400" spc="-1" strike="noStrike">
                <a:solidFill>
                  <a:srgbClr val="000000"/>
                </a:solidFill>
                <a:latin typeface="Calibri"/>
              </a:rPr>
              <a:t>محمد ازهر السماك, جغرافية الصناعية </a:t>
            </a:r>
            <a:br>
              <a:rPr sz="2400"/>
            </a:br>
            <a:r>
              <a:rPr b="0" lang="ar-IQ" sz="2400" spc="-1" strike="noStrike">
                <a:solidFill>
                  <a:srgbClr val="000000"/>
                </a:solidFill>
                <a:latin typeface="Calibri"/>
              </a:rPr>
              <a:t>عبد الزهرة علي الجنابي , جغرافية الصناعة</a:t>
            </a:r>
            <a:br>
              <a:rPr sz="2400"/>
            </a:br>
            <a:r>
              <a:rPr b="0" lang="ar-IQ" sz="2400" spc="-1" strike="noStrike">
                <a:solidFill>
                  <a:srgbClr val="000000"/>
                </a:solidFill>
                <a:latin typeface="Calibri"/>
              </a:rPr>
              <a:t>مريم عيسى مهنى, مجلة علمية ,العدد الثاني عشر,(</a:t>
            </a:r>
            <a:r>
              <a:rPr b="0" lang="ar-IQ" sz="2400" spc="-1" strike="noStrike">
                <a:solidFill>
                  <a:srgbClr val="000000"/>
                </a:solidFill>
                <a:latin typeface="Calibri"/>
              </a:rPr>
              <a:t>2014</a:t>
            </a:r>
            <a:r>
              <a:rPr b="0" lang="ar-IQ" sz="2400" spc="-1" strike="noStrike">
                <a:solidFill>
                  <a:srgbClr val="000000"/>
                </a:solidFill>
                <a:latin typeface="Calibri"/>
              </a:rPr>
              <a:t>).</a:t>
            </a:r>
            <a:br>
              <a:rPr sz="2400"/>
            </a:b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6600" y="84240"/>
            <a:ext cx="8982000" cy="6573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التخطيط الصناعي في الاقتصاديات الحرة</a:t>
            </a:r>
            <a:br>
              <a:rPr sz="2000"/>
            </a:b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التخطيط الصناعي في الاقتصاديات التخطيط المركزي</a:t>
            </a:r>
            <a:br>
              <a:rPr sz="2000"/>
            </a:b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التخطيط الصناعي في الدول النامية</a:t>
            </a:r>
            <a:br>
              <a:rPr sz="2000"/>
            </a:br>
            <a:br>
              <a:rPr sz="2000"/>
            </a:br>
            <a:r>
              <a:rPr b="0" lang="ar-IQ" sz="2000" spc="-1" strike="noStrike">
                <a:solidFill>
                  <a:srgbClr val="000000"/>
                </a:solidFill>
                <a:latin typeface="Calibri"/>
                <a:cs typeface="Times New Roman"/>
              </a:rPr>
              <a:t>التخطيط الصناعي في الاقتصاديات الحرة:</a:t>
            </a:r>
            <a:br>
              <a:rPr sz="2000"/>
            </a:br>
            <a:r>
              <a:rPr b="0" lang="ar-IQ" sz="2000" spc="-1" strike="noStrike">
                <a:solidFill>
                  <a:srgbClr val="000000"/>
                </a:solidFill>
                <a:latin typeface="Calibri"/>
                <a:cs typeface="Times New Roman"/>
              </a:rPr>
              <a:t>ويعني عمليات التخطيط التي تقوم بها الدولة في الانظمة الرأسمالية والتي تستهدف التدخل وتوجيه النشاط الصناعي.ان فلسفة النظام الرأسمالي تقوم على اساس الحرية الاقتصادية,وان النشاط الصناعي ينموبشكل تلقائي من خلال آلية السوق التي تتفاعل فيها رغبات المستهلكين والمنتجين فهم احرار في اخاذ القرارات التي يرونها مناسبة لمصالحهم ويقومون بتكيف فعاليتهم الاقتصادية استاجبه للتغيرات التي تحصل في السوق وتمثلها حالة الاسعار النسبية.ابرز الدول التي اعتمدت هذا المنهجة هي بريطانيا وفرنسا ويطاليا.حيث قامت هذه الدول بتشكيل هيئات تحاول التدخل غير المباشر في النشاط الصناعي بأعتماد اجراءات عديدة واهمها:</a:t>
            </a:r>
            <a:br>
              <a:rPr sz="2000"/>
            </a:b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سياسة الاقراض التي تقوم بها المصارف الصناعية والحكومية.</a:t>
            </a:r>
            <a:br>
              <a:rPr sz="2000"/>
            </a:b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الأنفاق العام ومستوى الدخول يأتي ضمن ذالك الاسثمارت الحكومية في مجال البنى التحتية.</a:t>
            </a:r>
            <a:br>
              <a:rPr sz="2000"/>
            </a:b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السياسات الضريبية.</a:t>
            </a:r>
            <a:br>
              <a:rPr sz="2000"/>
            </a:br>
            <a:r>
              <a:rPr b="0" lang="ar-IQ" sz="2000" spc="-1" strike="noStrike">
                <a:solidFill>
                  <a:srgbClr val="000000"/>
                </a:solidFill>
                <a:latin typeface="Calibri"/>
                <a:ea typeface="Times New Roman"/>
              </a:rPr>
              <a:t>4</a:t>
            </a:r>
            <a:r>
              <a:rPr b="0" lang="ar-IQ" sz="2000" spc="-1" strike="noStrike">
                <a:solidFill>
                  <a:srgbClr val="000000"/>
                </a:solidFill>
                <a:latin typeface="Calibri"/>
                <a:ea typeface="Times New Roman"/>
              </a:rPr>
              <a:t>.السيطرة على استعمالات الارض.</a:t>
            </a:r>
            <a:br>
              <a:rPr sz="2000"/>
            </a:br>
            <a:r>
              <a:rPr b="0" lang="ar-IQ" sz="2000" spc="-1" strike="noStrike">
                <a:solidFill>
                  <a:srgbClr val="000000"/>
                </a:solidFill>
                <a:latin typeface="Calibri"/>
                <a:ea typeface="Times New Roman"/>
              </a:rPr>
              <a:t>5</a:t>
            </a:r>
            <a:r>
              <a:rPr b="0" lang="ar-IQ" sz="2000" spc="-1" strike="noStrike">
                <a:solidFill>
                  <a:srgbClr val="000000"/>
                </a:solidFill>
                <a:latin typeface="Calibri"/>
                <a:ea typeface="Times New Roman"/>
              </a:rPr>
              <a:t>.المنح والمساعدات المالية في مجالات التدريب واعداد الكوادر والضمان الاجتماعي للعاملي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6600" y="83880"/>
            <a:ext cx="8982000" cy="6592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لتخطيط في الدول ذات التخطيط المركزي:</a:t>
            </a:r>
            <a:br>
              <a:rPr sz="2000"/>
            </a:br>
            <a:br>
              <a:rPr sz="2000"/>
            </a:br>
            <a:r>
              <a:rPr b="0" lang="ar-IQ" sz="2000" spc="-1" strike="noStrike">
                <a:solidFill>
                  <a:srgbClr val="000000"/>
                </a:solidFill>
                <a:latin typeface="Calibri"/>
                <a:cs typeface="Times New Roman"/>
              </a:rPr>
              <a:t>يعتمد هذا الاسلوب في الدول التي تكون فيها الملكية العامة لوسائل الانتاج هي السائدة.والحكومات تكون بذالك قادرة على توجيه النشاط الاقتصادي عامه والصناعي منه بوجه خاص والوجهة التي تراها من خلال القوانين الاقتصادية التي تقررها وتنفيذها.فالدول الاشتراكية تكون فيها الحكومه هي المالكة لرأس المال ولها تعود ملكية المنشأت الصناعية وهي تختار الصناعة وفروعها ومواقعها.</a:t>
            </a:r>
            <a:br>
              <a:rPr sz="2000"/>
            </a:br>
            <a:r>
              <a:rPr b="0" lang="ar-IQ" sz="2000" spc="-1" strike="noStrike">
                <a:solidFill>
                  <a:srgbClr val="000000"/>
                </a:solidFill>
                <a:latin typeface="Calibri"/>
                <a:cs typeface="Times New Roman"/>
              </a:rPr>
              <a:t>وفي هذه الدول توضع الخطط الصناعية مستهدفة تحقيق كل او بعض الاهداف التالية:</a:t>
            </a:r>
            <a:br>
              <a:rPr sz="2000"/>
            </a:b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تحقيق ربحة اقتصادية او كفائة انتاجية في المشاريع القائمة</a:t>
            </a:r>
            <a:br>
              <a:rPr sz="2000"/>
            </a:b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القضاء على الازمات الاقتصادية والمالية.</a:t>
            </a:r>
            <a:br>
              <a:rPr sz="2000"/>
            </a:b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توفير فرص عمل وتحقيق اهداف اجتماعية.</a:t>
            </a:r>
            <a:br>
              <a:rPr sz="2000"/>
            </a:br>
            <a:r>
              <a:rPr b="0" lang="ar-IQ" sz="2000" spc="-1" strike="noStrike">
                <a:solidFill>
                  <a:srgbClr val="000000"/>
                </a:solidFill>
                <a:latin typeface="Calibri"/>
                <a:ea typeface="Times New Roman"/>
              </a:rPr>
              <a:t>4</a:t>
            </a:r>
            <a:r>
              <a:rPr b="0" lang="ar-IQ" sz="2000" spc="-1" strike="noStrike">
                <a:solidFill>
                  <a:srgbClr val="000000"/>
                </a:solidFill>
                <a:latin typeface="Calibri"/>
                <a:ea typeface="Times New Roman"/>
              </a:rPr>
              <a:t>.تحقيق اكبر قدر من التشابك والتفاعل بين قطاعات الاقتصاد.</a:t>
            </a:r>
            <a:br>
              <a:rPr sz="2000"/>
            </a:br>
            <a:r>
              <a:rPr b="0" lang="ar-IQ" sz="2000" spc="-1" strike="noStrike">
                <a:solidFill>
                  <a:srgbClr val="000000"/>
                </a:solidFill>
                <a:latin typeface="Calibri"/>
                <a:ea typeface="Times New Roman"/>
              </a:rPr>
              <a:t>5</a:t>
            </a:r>
            <a:r>
              <a:rPr b="0" lang="ar-IQ" sz="2000" spc="-1" strike="noStrike">
                <a:solidFill>
                  <a:srgbClr val="000000"/>
                </a:solidFill>
                <a:latin typeface="Calibri"/>
                <a:ea typeface="Times New Roman"/>
              </a:rPr>
              <a:t>.الانتفاع من الموارد المتاحة واستثمار مالم يستثمر منه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83880"/>
            <a:ext cx="8962920" cy="6592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لتخطيط الصناعي في الدول النامية:</a:t>
            </a:r>
            <a:br>
              <a:rPr sz="2000"/>
            </a:br>
            <a:br>
              <a:rPr sz="2000"/>
            </a:br>
            <a:r>
              <a:rPr b="0" lang="ar-IQ" sz="2000" spc="-1" strike="noStrike">
                <a:solidFill>
                  <a:srgbClr val="000000"/>
                </a:solidFill>
                <a:latin typeface="Calibri"/>
                <a:cs typeface="Times New Roman"/>
              </a:rPr>
              <a:t>في هذه االدول تعتمد الوسائل الواردة في الاسلوبين السابقين.فالحكومه تقود النشاط العام لانها تمتلكه وتوجه القطاع الخاص وترسم له اتجاهته العامه.</a:t>
            </a:r>
            <a:br>
              <a:rPr sz="2000"/>
            </a:br>
            <a:r>
              <a:rPr b="0" lang="ar-IQ" sz="2000" spc="-1" strike="noStrike">
                <a:solidFill>
                  <a:srgbClr val="000000"/>
                </a:solidFill>
                <a:latin typeface="Calibri"/>
                <a:cs typeface="Times New Roman"/>
              </a:rPr>
              <a:t>ان المشاكل والصعوبالت التي تواجه الصناعه في هذه الدول دول العام الثالث(مايسمى بالدول الناميه)كبيرة وعميقه وتحتاج الى جهود ضخمه وخطط سليمه لبناء النشاط الصناعي وتحفيزه.وغالبآماتتخذ الخطط الصناعية في هذه الدول الاساليب التالية:</a:t>
            </a:r>
            <a:br>
              <a:rPr sz="2000"/>
            </a:b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التكيف مع الحالة التي تعيشها الدوله بمعانتها من ضآله رؤس الاموال المتاحه للاستثمار الصناعي.فتتجه الجهود نحو اقامة مشاريع تحتاج رؤس اموال قليلة.</a:t>
            </a:r>
            <a:br>
              <a:rPr sz="2000"/>
            </a:b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بناء على ذالك اغلب منشآتها تقوم بأحجام صغيرة ومتوسطة وبالمقابل تستوعب ايدي عاملة مماثلة.</a:t>
            </a:r>
            <a:br>
              <a:rPr sz="2000"/>
            </a:b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غالبآماتتجه تلك الخطط الصناعية نحو اقامة صناعه تسعى لتوفير مطالب لسكان من اللسلع الاستهلاكية التي لايمكن الاستغناء عنها كالصناعات النسيجية ولغذائية.</a:t>
            </a:r>
            <a:br>
              <a:rPr sz="2000"/>
            </a:br>
            <a:r>
              <a:rPr b="0" lang="ar-IQ" sz="2000" spc="-1" strike="noStrike">
                <a:solidFill>
                  <a:srgbClr val="000000"/>
                </a:solidFill>
                <a:latin typeface="Calibri"/>
                <a:ea typeface="Times New Roman"/>
              </a:rPr>
              <a:t>4</a:t>
            </a:r>
            <a:r>
              <a:rPr b="0" lang="ar-IQ" sz="2000" spc="-1" strike="noStrike">
                <a:solidFill>
                  <a:srgbClr val="000000"/>
                </a:solidFill>
                <a:latin typeface="Calibri"/>
                <a:ea typeface="Times New Roman"/>
              </a:rPr>
              <a:t>.كما تقوم فيها بعض الصناعات الموجهه نحو التصدير مستغلة وفرة مطالب الصناعة والخبرة التي تساعدها على انتاج هذه السلع بكلف تنافسية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4520"/>
            <a:ext cx="8982000" cy="6593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همية التخطيط الصناعي او اهدافه :</a:t>
            </a:r>
            <a:br>
              <a:rPr sz="2000"/>
            </a:br>
            <a:r>
              <a:rPr b="0" lang="ar-IQ" sz="2000" spc="-1" strike="noStrike">
                <a:solidFill>
                  <a:srgbClr val="000000"/>
                </a:solidFill>
                <a:latin typeface="Calibri"/>
                <a:ea typeface="Times New Roman"/>
              </a:rPr>
              <a:t> </a:t>
            </a:r>
            <a:br>
              <a:rPr sz="2000"/>
            </a:b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التخطيط الصناعي وسيلة مهمة لرفع معدلات التنمية الاقتصاديةعامه وتحقيق قدرآ اعلى من الدخول للافراد والمجتمع.</a:t>
            </a:r>
            <a:br>
              <a:rPr sz="2000"/>
            </a:b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التخطيط الصناعي يقلل من تأثير التقلبات وعدم الاستقرار الناتجة من الظروف الطبيعية التي تؤثر على القطاع الصناعي نفسه.</a:t>
            </a:r>
            <a:br>
              <a:rPr sz="2000"/>
            </a:b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يحقق الاستخدم الامثل للموارد الطبيعية والبشرية والاقتصادية المتاحه.</a:t>
            </a:r>
            <a:br>
              <a:rPr sz="2000"/>
            </a:br>
            <a:r>
              <a:rPr b="0" lang="ar-IQ" sz="2000" spc="-1" strike="noStrike">
                <a:solidFill>
                  <a:srgbClr val="000000"/>
                </a:solidFill>
                <a:latin typeface="Calibri"/>
                <a:ea typeface="Times New Roman"/>
              </a:rPr>
              <a:t>4</a:t>
            </a:r>
            <a:r>
              <a:rPr b="0" lang="ar-IQ" sz="2000" spc="-1" strike="noStrike">
                <a:solidFill>
                  <a:srgbClr val="000000"/>
                </a:solidFill>
                <a:latin typeface="Calibri"/>
                <a:ea typeface="Times New Roman"/>
              </a:rPr>
              <a:t>.يعد اسلوبأ فعالا لاستيعاب الايدي العاملة لقدرة الصناعة على خلق فرص عمل اكبر من الانشطه الاقتصادية.</a:t>
            </a:r>
            <a:br>
              <a:rPr sz="2000"/>
            </a:br>
            <a:r>
              <a:rPr b="0" lang="ar-IQ" sz="2000" spc="-1" strike="noStrike">
                <a:solidFill>
                  <a:srgbClr val="000000"/>
                </a:solidFill>
                <a:latin typeface="Calibri"/>
                <a:ea typeface="Times New Roman"/>
              </a:rPr>
              <a:t>5</a:t>
            </a:r>
            <a:r>
              <a:rPr b="0" lang="ar-IQ" sz="2000" spc="-1" strike="noStrike">
                <a:solidFill>
                  <a:srgbClr val="000000"/>
                </a:solidFill>
                <a:latin typeface="Calibri"/>
                <a:ea typeface="Times New Roman"/>
              </a:rPr>
              <a:t>.يحفز التطوير التقني للصناعات وادخال الخبرات والمهارات العلمية اليها.</a:t>
            </a:r>
            <a:br>
              <a:rPr sz="2000"/>
            </a:br>
            <a:r>
              <a:rPr b="0" lang="ar-IQ" sz="2000" spc="-1" strike="noStrike">
                <a:solidFill>
                  <a:srgbClr val="000000"/>
                </a:solidFill>
                <a:latin typeface="Calibri"/>
                <a:ea typeface="Times New Roman"/>
              </a:rPr>
              <a:t>6</a:t>
            </a:r>
            <a:r>
              <a:rPr b="0" lang="ar-IQ" sz="2000" spc="-1" strike="noStrike">
                <a:solidFill>
                  <a:srgbClr val="000000"/>
                </a:solidFill>
                <a:latin typeface="Calibri"/>
                <a:ea typeface="Times New Roman"/>
              </a:rPr>
              <a:t>.يساعد في تدعيم امن الدوله واستقرارها وبناء مستقبله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95400" y="74160"/>
            <a:ext cx="8934480" cy="6573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متطلبات التخطيط الصناعي:</a:t>
            </a:r>
            <a:br>
              <a:rPr sz="2000"/>
            </a:br>
            <a:br>
              <a:rPr sz="2000"/>
            </a:b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يجب ان تؤكدخطة التنميه الاقتصادية بشكل واضح على الاستتراتيجية الشاملة للتصنيع بغية توفير الاسس العلمية من اجل تخطيط البرنامج الصناعي على الاستراتيجيةالشاملة بشكل ناجح.</a:t>
            </a:r>
            <a:br>
              <a:rPr sz="2000"/>
            </a:b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ضرورة الاخذ بالحسبان لدى التخطيط للمشروعات الصناعية الارتباطات الامامية والخلفية بين الانشطة الاقتصادية لكونها من المتطلبات الاساسية للخطة الصناعية المعدة اعدادآعلميآ جيدآ.</a:t>
            </a:r>
            <a:br>
              <a:rPr sz="2000"/>
            </a:b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من المتطلبات الاساسية للخطة الجيدة عامل التوفيق بين اهداف الخطة القومية بشكل عام والصناعية بشكل خاص من تباين الوسائل المستخدمه لانجاز الخطة خلال فترة معينه من الزمن ووسائلها وكذالك التناقض الزمني يجب العمل على تجنبه او الحد منه بأي شكل من الاشكال,</a:t>
            </a:r>
            <a:br>
              <a:rPr sz="2000"/>
            </a:br>
            <a:r>
              <a:rPr b="0" lang="ar-IQ" sz="2000" spc="-1" strike="noStrike">
                <a:solidFill>
                  <a:srgbClr val="000000"/>
                </a:solidFill>
                <a:latin typeface="Calibri"/>
                <a:ea typeface="Times New Roman"/>
              </a:rPr>
              <a:t>4</a:t>
            </a:r>
            <a:r>
              <a:rPr b="0" lang="ar-IQ" sz="2000" spc="-1" strike="noStrike">
                <a:solidFill>
                  <a:srgbClr val="000000"/>
                </a:solidFill>
                <a:latin typeface="Calibri"/>
                <a:ea typeface="Times New Roman"/>
              </a:rPr>
              <a:t>.ان تحقيق التوازن الى حد مااثناء اعداد الخطة الصناعية بين ماهو متوفر من الموارد الطبيعيه والبشرية المتاحه وبين الاهداف الاقتصادية والاجتماعية امر في غاية الاهمية.</a:t>
            </a:r>
            <a:br>
              <a:rPr sz="2000"/>
            </a:br>
            <a:r>
              <a:rPr b="0" lang="ar-IQ" sz="2000" spc="-1" strike="noStrike">
                <a:solidFill>
                  <a:srgbClr val="000000"/>
                </a:solidFill>
                <a:latin typeface="Calibri"/>
                <a:ea typeface="Times New Roman"/>
              </a:rPr>
              <a:t>5</a:t>
            </a:r>
            <a:r>
              <a:rPr b="0" lang="ar-IQ" sz="2000" spc="-1" strike="noStrike">
                <a:solidFill>
                  <a:srgbClr val="000000"/>
                </a:solidFill>
                <a:latin typeface="Calibri"/>
                <a:ea typeface="Times New Roman"/>
              </a:rPr>
              <a:t>.ان الخطة المعدة اعدادآ جيدآ يجب ان تعمل على زيادة الثقة الاقتصادية لدى القائمين على اصدار القرارات للمستثمرين في القطاع الخا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5320" y="93240"/>
            <a:ext cx="8953560" cy="6583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مشاكل التخطيط الصناعي:</a:t>
            </a:r>
            <a:br>
              <a:rPr sz="2000"/>
            </a:br>
            <a:br>
              <a:rPr sz="2000"/>
            </a:b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البيانات المطلوبة:</a:t>
            </a:r>
            <a:br>
              <a:rPr sz="2000"/>
            </a:br>
            <a:r>
              <a:rPr b="0" lang="ar-IQ" sz="2000" spc="-1" strike="noStrike">
                <a:solidFill>
                  <a:srgbClr val="000000"/>
                </a:solidFill>
                <a:latin typeface="Calibri"/>
                <a:cs typeface="Times New Roman"/>
              </a:rPr>
              <a:t>تعد عدم كفاية البيانات المطلوبة التي يقوم عليها التخطيط احدى خصائص التخلف الاقتصادي فأقل مايعنيه التخطيط هو تنسيق الجهود الامر الذي يحول دون تحقيقه مالم يتوافر حد ادنى من المعلومات عن البيئة الطبيعية والبشرية (الاقتصادية والفنية) التي سيجري عليها التنسيق,وبعبارة اخرى لايمكن تعزيز مايمكن عمله مالم يكن هناك علم بما تم عمله فعلا,ومن المعلوم انه في البلدان الاقل تقدما تتوافر دائمآ بعض البيانات,كما انه يمكن عمل برمجه مناسبة دون وجودصورة تفصيلية كاملة.والبيانات المطلوبة تتوقف على منهج التخطيط والنتيجة المباشرة لهذا المبدأ وان تحليل النفقة(التكلفة)يمكن ان تطبق على تجميع البيانات جديدة ملائمة قدر الامكان لتقويم مشروع محدد وهنا يجب المقارنه بين الكلفة الاضافية لجمع المعلومات الاقتصادية والفنية التي لم تكن متاحة من قبل ولكي يمكن استخدام منهج للتخطيط اكثر تقدمآ بين المنافع الاضافية المتوقعة  من تطبيق هذه الطرق المتقدمة.ويبقى مع ذالك ان التخطيط يكون مستحيلا مالم تتوافر حد ادنى من المعلومات.</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4520"/>
            <a:ext cx="8962920" cy="67168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اساليب التخطيط الفنية والمهارات:</a:t>
            </a:r>
            <a:br>
              <a:rPr sz="2000"/>
            </a:br>
            <a:br>
              <a:rPr sz="2000"/>
            </a:br>
            <a:r>
              <a:rPr b="0" lang="ar-IQ" sz="2000" spc="-1" strike="noStrike">
                <a:solidFill>
                  <a:srgbClr val="000000"/>
                </a:solidFill>
                <a:latin typeface="Calibri"/>
                <a:cs typeface="Times New Roman"/>
              </a:rPr>
              <a:t>يواجه التخطيط في الدول النامية مشكلات عديدة ترتبط بصياغة الخطة وتنفيذها وقيامها فلا بد من ترجمة البرامج الصناعية الى مشروعات صناعية محددة,وذالك لانه لايمكن لهذه المشروعات بغير طريق الصياغة والتقييم والتنفيذ السليم ان تحقق اهداف الاستثمار والانتاج والعمالة..وتنعكس صياغة وتقويم وتنفيذ ومتابعة المشروعات الصناعية بالاتي....</a:t>
            </a:r>
            <a:br>
              <a:rPr sz="2000"/>
            </a:b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الوقت الضائع من اجل تحديد فرص الاستثمار وصياغة المشروعات.</a:t>
            </a:r>
            <a:br>
              <a:rPr sz="2000"/>
            </a:b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طول المدة اللازمة لتنفيذ المشروعات.</a:t>
            </a:r>
            <a:br>
              <a:rPr sz="2000"/>
            </a:b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المبالغة في تكاليف الانشاء.</a:t>
            </a:r>
            <a:br>
              <a:rPr sz="2000"/>
            </a:br>
            <a:r>
              <a:rPr b="0" lang="ar-IQ" sz="2000" spc="-1" strike="noStrike">
                <a:solidFill>
                  <a:srgbClr val="000000"/>
                </a:solidFill>
                <a:latin typeface="Calibri"/>
                <a:ea typeface="Times New Roman"/>
              </a:rPr>
              <a:t>4</a:t>
            </a:r>
            <a:r>
              <a:rPr b="0" lang="ar-IQ" sz="2000" spc="-1" strike="noStrike">
                <a:solidFill>
                  <a:srgbClr val="000000"/>
                </a:solidFill>
                <a:latin typeface="Calibri"/>
                <a:ea typeface="Times New Roman"/>
              </a:rPr>
              <a:t>.رداءة المنتجات وارتفاع تكاليفها.</a:t>
            </a:r>
            <a:br>
              <a:rPr sz="2000"/>
            </a:br>
            <a:r>
              <a:rPr b="0" lang="ar-IQ" sz="2000" spc="-1" strike="noStrike">
                <a:solidFill>
                  <a:srgbClr val="000000"/>
                </a:solidFill>
                <a:latin typeface="Calibri"/>
                <a:ea typeface="Times New Roman"/>
              </a:rPr>
              <a:t>5</a:t>
            </a:r>
            <a:r>
              <a:rPr b="0" lang="ar-IQ" sz="2000" spc="-1" strike="noStrike">
                <a:solidFill>
                  <a:srgbClr val="000000"/>
                </a:solidFill>
                <a:latin typeface="Calibri"/>
                <a:ea typeface="Times New Roman"/>
              </a:rPr>
              <a:t>.انخفاض الربحية التجارية.</a:t>
            </a:r>
            <a:br>
              <a:rPr sz="2000"/>
            </a:br>
            <a:r>
              <a:rPr b="0" lang="ar-IQ" sz="2000" spc="-1" strike="noStrike">
                <a:solidFill>
                  <a:srgbClr val="000000"/>
                </a:solidFill>
                <a:latin typeface="Calibri"/>
                <a:ea typeface="Times New Roman"/>
              </a:rPr>
              <a:t>6</a:t>
            </a:r>
            <a:r>
              <a:rPr b="0" lang="ar-IQ" sz="2000" spc="-1" strike="noStrike">
                <a:solidFill>
                  <a:srgbClr val="000000"/>
                </a:solidFill>
                <a:latin typeface="Calibri"/>
                <a:ea typeface="Times New Roman"/>
              </a:rPr>
              <a:t>.القصور عن تحقيق الاهداف المخططة في بعض النواحي مثل العمالة والدخل وتكوين رأس المال وتحسين ميزان المدفوعات والتعاون بين الاقاليم.</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8T19:14:56Z</dcterms:created>
  <dc:creator>r.eash</dc:creator>
  <dc:description/>
  <dc:language>en-US</dc:language>
  <cp:lastModifiedBy>hp</cp:lastModifiedBy>
  <dcterms:modified xsi:type="dcterms:W3CDTF">2019-03-18T02:22:38Z</dcterms:modified>
  <cp:revision>263</cp:revision>
  <dc:subject/>
  <dc:title>Slide 1</dc:title>
</cp:coreProperties>
</file>